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26A-D9BA-4B82-B4C4-53DEE639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9C1-995A-4B74-B624-61F0B3EF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8D5-F1E2-4302-A874-FC37CF18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877-F6BC-4CC9-8785-B44FED64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F1C9-D9EF-4A1B-9041-FB157C45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A9CE-C661-4400-984A-6C27886E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C1A8-2B8A-4364-8E59-3E86B0D7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A1EB-8BA4-4797-BC65-2C3CB908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9D17-77FD-410B-9C20-34BDD013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68AE-7628-4FBF-8BF4-60FE611D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41CD-D00C-4C47-8355-13C6B866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1E44-28B3-42CD-AFFD-6297B793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5D1-8073-4C56-9A96-C9C0FEC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5D5-E4B4-42E5-B0E1-2AA16E9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7B9-0889-470A-A76A-FB012617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006E-C5F5-4D7A-BCBC-DDA7F4E9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35C2-FA22-4DB0-A985-98CDB8EB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B7F-E694-42CD-9C60-5BED5D0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E20-924C-4B6E-81B9-7B76963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C7E-D711-402A-8FED-12268B51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4DA-10BF-4049-A86C-BA95146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A55-C8F6-4FE6-9271-8A76AE0B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220-8AA4-40E5-A977-254900C1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E73-1824-40CA-B7D3-835C8B5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8B51-47E0-41C8-8C86-0EAD3F61F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5040-572D-4065-A4DF-F976DBAD4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uman Growth: From data to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ive order 2 B-spline basis functions: </a:t>
            </a:r>
            <a:br>
              <a:rPr sz="4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 basis for polygonal line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ight order 4 B-spline basis functions </a:t>
            </a:r>
            <a:br>
              <a:rPr sz="4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A basis for twice-differentiable function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-splines for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order 6 B-splines because we want to differentiate the result at least twice.  Order 4 splines look smooth, but their second derivatives are roug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lace a knot at each of the 31 a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otal number of basis functions = order + number of interior knots.  35 in this c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sn’t using 35 basis functions to fit 31 observations a proble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  We will fit each observation exa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ignore the fact that the measurement error is typically about 0.5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’ll fix this up later, when we look at roughness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kay, let’s see what happ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wo Matlab commands define the basis and fit th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35, 6, ag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ta2fd(hgtfmat, age, hgtba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we need to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324480" y="175212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in the data has a huge impact on derivative estim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let me smooth the dat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sets up 12 B-spline basis functions defined by equally spaced knots.  This gives us about the right amount of fitting power given the error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12,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velocities are much bett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o negative on the right,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24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t’s see some accel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 curves are too unstable at the end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something b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easure of rough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we mean by “smooth”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that is smooth has limited curv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ature depends on the second derivative. A straight line is completely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allenges to measuring grow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repeated and regular access to subjects for up to 20 yea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ght changes over the day, and must be measured at a fixe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ight is measured in supine position in infancy, followed by standing height.  The change involves an adjustment of about 1 c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ment error is about 0.5 cm in later years, but is rather larger in infanc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easure the roughness of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integrating its squared second deriv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derivative notation 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67080" y="2917800"/>
          <a:ext cx="4038840" cy="88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917800"/>
                    <a:ext cx="40388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 of accel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we want acceleration to be smooth, we measure roughness at the level of accele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657600" y="2590920"/>
          <a:ext cx="4876920" cy="118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90920"/>
                    <a:ext cx="48769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enalized least squares criter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trike a compromise between fitting the data and keeping the fit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3809880"/>
          <a:ext cx="7543800" cy="12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09880"/>
                    <a:ext cx="754380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this control roughnes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fitting the data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s, we place more and more emphasis on penalizing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∞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roughness matters, and functions having zero roughness are us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either smooth at the data fitting step, or smooth a rough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tlab command smooths the fit to the data obtained using knots at ages.  The roughness of the fourth derivative is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mbda = 0.0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 smooth_fd(hgtfd, lambda, 4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celerations using a roughness penal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s are much less variable at the extre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414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rresponding veloc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hoose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mooth just enough to obtain tolerable roughness in the estimated curves (accelerations in this case), but not so much as to lose interesting vari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data-driven methods for choosing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ut they offer only a reasonable place to begin explor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smoothing inevitably involves judg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monotonicit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wth curves should be monoton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locities should be non-neg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ard to prevent linear combinations of anything from breaking the r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an indirect approach to constructing a monotonic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ial equation for monoton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rictly monotonic function x(t) must satisfy a simple linear differential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66880" y="3276720"/>
          <a:ext cx="403884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4038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49040" y="4248000"/>
            <a:ext cx="90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ason is simple: because of strict monotonic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derivative Dx(t) will never be 0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w(t) is therefore simply 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(t)/Dx(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to functional model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smooth curves that fit the data as well as is reason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want to look at velocity and acceleration, so we want to differentiate twice and still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rinciple the curves should be monotone; i. e., have a positive deriv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olution of the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any strictly monotonic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expressible in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371600" y="3276720"/>
          <a:ext cx="678168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7816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80880" y="4572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uggests that we transform the mono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roblem into one of estima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have learn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-spline bases are a good choice for fitting non-periodic functions; Fourier series are right for periodic situ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control smoothness by either using a restricted number of basis functions, or by imposing a roughness penal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ughness penalty methods generally work be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l equations can play a useful role when fitting constrained functions to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re inform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 &amp; Silverman (1997, 2004), Chs. 3, 4, 1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 &amp; Silverman (2002), Ch.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ng-term growth data are from the Berkeley growth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fant growth data were collected by Michael Hermanusse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re do we go from here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look more systematically at how to smooth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nvolves deciding what basis function system to 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lines are so important that we have to look at them in more deta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’s a serious problem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’s wrong with the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ss-sectional mean is the heavy blu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less amplitude variation than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bertal growth spurt for the mean lasts longer than does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is that we are averaging over curves in quite different stages of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’s wrong with the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oss-sectional mean is the heavy blue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less amplitude variation than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bertal growth spurt for the mean lasts longer than does any singl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blem is that we are averaging over curves in quite different stages of grow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 and 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al data like growth curves often show variation in the timing of events, like the pubertal growth spu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call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to find out how to separate phase from amplitude variation before we can do even simple things like compute mean curv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notonicity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bia of a newborn measured daily shows us that over the short term growth takes places in spu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aby’s tibia grows as fast as 2 mm/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fit a smooth monotone function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" y="2068560"/>
            <a:ext cx="4038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ighted sums of basi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a flexible method for constructing curves to fit th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begin with a set of basic functional building blocks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led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basis fun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fitting 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weighted sum of these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371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3355920"/>
          <a:ext cx="403848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355920"/>
                    <a:ext cx="4038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re the main choices for basis functions?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ourier ser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nstant term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ne/cosine pair of fixed frequency,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ed by a series of sine/cosine pairs with integer multiples of the base frequen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ier series are best for periodic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ve Fourier basis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basis functions are piecewise polynomials defined by a set of discrete values called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kno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polynomials (degree + 1) controls their smoothnes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basis function is nonzero only over a number of contiguous inter-knot intervals equal to the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ynomials are a special type of B-spline, and are thus included within the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-spli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en should I use B-spline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-splines are the basis of choice for most non-period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ive complete control over flexibility, allowing more flexibility where needed and less where not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ing with B-splines is extremely efficien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49:23Z</dcterms:created>
  <dc:creator>J. O. Ramsay</dc:creator>
  <dc:description/>
  <dc:language>en-US</dc:language>
  <cp:lastModifiedBy>ramsay</cp:lastModifiedBy>
  <dcterms:modified xsi:type="dcterms:W3CDTF">2004-06-07T16:58:13Z</dcterms:modified>
  <cp:revision>13</cp:revision>
  <dc:subject/>
  <dc:title>Human Grow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