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8.wmf" ContentType="image/x-wmf"/>
  <Override PartName="/ppt/media/image1.jpeg" ContentType="image/jpeg"/>
  <Override PartName="/ppt/media/image10.png" ContentType="image/png"/>
  <Override PartName="/ppt/media/image2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537D-2CDE-44AD-9566-17F0BE02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C073-D0B8-4E6A-97F0-67E76373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F012-EE96-4A6D-B8C4-CF3038027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5A55-3617-47BE-BE75-BBA664E4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634E-C532-4086-A854-020BB3AB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302D-8C04-47DB-B709-7967348E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B673-DC67-43B7-B892-052A31A5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B2EB-04A3-44B4-AB25-C2027872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467D-3E9A-4C79-B2B3-ADF59A94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EFB3-071A-4CA2-8307-A158EB25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8B05-43D2-4201-A7C0-4E88BAF2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7267-1EFA-4501-9C1B-9349C199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2785-CB48-48EA-B3DA-96051E9C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E975-300F-46E2-8C02-78D9266C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E408-9652-4E0A-AF19-40C3A1F3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46F0-F7A1-4BAF-A096-DF434CE3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695A-2620-4380-B643-B134D9E4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6162-E7DC-43BD-9598-DC37DF79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FA08-AE9E-4805-938E-4E022C01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D6FC-96A2-4360-91A0-479FBA8C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0135-4E0F-4C78-922D-8CCE7E61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99B2-1ED0-4563-94FC-AEBB776D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77DE-AB2B-439C-884E-5940F0AD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C315-54C8-43E9-9F50-A975003A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146D-180C-420F-8D2E-2EDB8B01D9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4A53-7709-4254-A790-FA5FFE4EFE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Handwriting: </a:t>
            </a:r>
            <a:br>
              <a:rPr sz="4000"/>
            </a:b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Registration and Differential Equa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905120" y="1981080"/>
            <a:ext cx="5333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Registered curves for handwriting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Handwriting data have both X and Y direc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Register </a:t>
            </a:r>
            <a:r>
              <a:rPr b="0" i="1" lang="en-CA" sz="2400" spc="-1" strike="noStrike">
                <a:solidFill>
                  <a:srgbClr val="ffffff"/>
                </a:solidFill>
                <a:latin typeface="Tahoma"/>
              </a:rPr>
              <a:t>tangential acceleration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TA(t) = [X’’(t)</a:t>
            </a:r>
            <a:r>
              <a:rPr b="0" lang="en-CA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+ Y’’(t)</a:t>
            </a:r>
            <a:r>
              <a:rPr b="0" lang="en-CA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]</a:t>
            </a:r>
            <a:r>
              <a:rPr b="0" lang="en-CA" sz="2400" spc="-1" strike="noStrike" baseline="30000">
                <a:solidFill>
                  <a:srgbClr val="ffffff"/>
                </a:solidFill>
                <a:latin typeface="Tahoma"/>
              </a:rPr>
              <a:t>1/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eaks more cleanly aligned after registr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3600360" cy="2776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84360" y="4081320"/>
            <a:ext cx="360036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Can we imagine a differential equation for handwriting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896472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First look at the X-coordinate – the other two are analog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Relates the physics of the pen movement, written in a standard differential equation templat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Physical characteristic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CA" sz="20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CA" sz="20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(t) = </a:t>
            </a:r>
            <a:r>
              <a:rPr b="0" i="1" lang="en-CA" sz="2000" spc="-1" strike="noStrike">
                <a:solidFill>
                  <a:srgbClr val="ffffff"/>
                </a:solidFill>
                <a:latin typeface="Tahoma"/>
              </a:rPr>
              <a:t>jerk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of i</a:t>
            </a:r>
            <a:r>
              <a:rPr b="0" lang="en-CA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pe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CA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CA" sz="20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(t) = acceleration of i</a:t>
            </a:r>
            <a:r>
              <a:rPr b="0" lang="en-CA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pe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Dx</a:t>
            </a:r>
            <a:r>
              <a:rPr b="0" lang="en-CA" sz="20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(t) = velocity of i</a:t>
            </a:r>
            <a:r>
              <a:rPr b="0" lang="en-CA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pe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Functional coefficients, which describe relationships among physical characteristic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CA" sz="20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(t) = time-varying intercep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CA" sz="2000" spc="-1" strike="noStrike" baseline="-25000">
                <a:solidFill>
                  <a:srgbClr val="ffffff"/>
                </a:solidFill>
                <a:latin typeface="Tahoma"/>
              </a:rPr>
              <a:t>x1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(t) = time-varying coefficient relating velocity to jer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CA" sz="2000" spc="-1" strike="noStrike" baseline="-25000">
                <a:solidFill>
                  <a:srgbClr val="ffffff"/>
                </a:solidFill>
                <a:latin typeface="Tahoma"/>
              </a:rPr>
              <a:t>x2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(t) = time-varying coefficient relating acceleration to jer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1700280"/>
            <a:ext cx="3959280" cy="825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Linear Differential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Analogy to linear regre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Jerk is respon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Acceleration and velocity are predicto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The difference is that response and predictors are all estimated from same da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Estimate coefficients through Principal Differential Analysis (PD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907920"/>
          <a:ext cx="8353440" cy="52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907920"/>
                    <a:ext cx="83534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Principal Differential Analy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Estimate coefficient functions a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(t), b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</a:rPr>
              <a:t>x1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(t), and b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</a:rPr>
              <a:t>x2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(t) in the linear differential eq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First find good estimates of the derivatives D</a:t>
            </a:r>
            <a:r>
              <a:rPr b="0" lang="en-CA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x and D</a:t>
            </a:r>
            <a:r>
              <a:rPr b="0" lang="en-CA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x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Similar to linear regression:  Find coefficients that minimi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How do we do this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476360" y="2924280"/>
          <a:ext cx="5905440" cy="47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2924280"/>
                    <a:ext cx="590544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916360" y="4653000"/>
          <a:ext cx="5903640" cy="604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4653000"/>
                    <a:ext cx="590364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How do we do PDA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Use regularization again to balance goa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Want the estimated weight functions to be close to the “true” weight func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Want smooth weight func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Minim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Lambda is smoothing para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Lambda = 0:  weight functions rou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Lambda </a:t>
            </a:r>
            <a:r>
              <a:rPr b="0" lang="en-CA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infinity: weight functions go to 0 (differential operator no different than mth derivativ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987640" y="3573360"/>
          <a:ext cx="4038480" cy="4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3573360"/>
                    <a:ext cx="4038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Estimated coefficient fun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95640" y="1980720"/>
            <a:ext cx="309708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First coefficient func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Average value 2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Horizontal oscillation once every .2 secon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Second coefficient func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Average value around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Exponential growth or decay (none on average here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5040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Checking adequacy of fi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48000" y="1981080"/>
            <a:ext cx="39956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Residual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small relative to third derivati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concentrated around ze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CA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goodness of fit (proportion of variability explained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X-coordinate: 0.99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Y-coordinate: 0.99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Z-coordinate: 0.99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44640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Can we use this differential equation to identify writer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Two writers: JR and C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20 replications each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Estimate linear differential equation for each write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Apply each estimated equation to self and to oth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Regression analogy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Build an equation on one dataset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predict the responses for new dataset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compare fitted values to actual values (residuals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JR to J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JR to C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CC to J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CC to C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66880" y="380880"/>
            <a:ext cx="7408800" cy="5715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916360" y="638172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Residuals for x coordin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627280" y="63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Residuals for Y coordin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66880" y="380880"/>
            <a:ext cx="7408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084720" y="333360"/>
            <a:ext cx="3059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Printed the letters “fda” by hand 20 tim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Optotrak system recorded positions of pen, 200 times per secon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X (left to righ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Y (front to back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Z (up and down, verticall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There are different rates of printing, even for same pers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576108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27280" y="630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Residuals for Z coordin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66880" y="380880"/>
            <a:ext cx="7408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5ffff"/>
                </a:solidFill>
                <a:latin typeface="Tahoma"/>
              </a:rPr>
              <a:t>What have we learned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ontinuous time regist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Differential equ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Functional data in three dimen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Why study time records of handwriting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Fraud detection:  handwriting is perso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We usually only see static images – but what about our time-signature?  Are our writing dynamics uniqu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How can we prepare the data for analysi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41264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Problem: Timing of letters is different for each replic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Hand times” are different than “clock time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ccff"/>
                </a:solidFill>
                <a:latin typeface="Tahoma"/>
              </a:rPr>
              <a:t>Amplitude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differences: having to do with shap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ccff"/>
                </a:solidFill>
                <a:latin typeface="Tahoma"/>
              </a:rPr>
              <a:t>Phase</a:t>
            </a: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 differences: having to do with tim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Both are important components of functional dat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How can we transform (</a:t>
            </a:r>
            <a:r>
              <a:rPr b="0" i="1" lang="en-CA" sz="2400" spc="-1" strike="noStrike">
                <a:solidFill>
                  <a:srgbClr val="ffffff"/>
                </a:solidFill>
                <a:latin typeface="Tahoma"/>
              </a:rPr>
              <a:t>warp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 the clock time so that we’re left with only amplitude differenc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3959280" cy="2702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68360" y="4005360"/>
            <a:ext cx="39607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3280" y="380520"/>
            <a:ext cx="4032360" cy="20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What does a warping function look lik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64000" y="2509920"/>
            <a:ext cx="338472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arget function is sin(4pit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Individual function is running is fast: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o time-warping function 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4032360" cy="3110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39640" y="3747960"/>
            <a:ext cx="4032360" cy="311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5867280" y="4797360"/>
          <a:ext cx="1513080" cy="55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4797360"/>
                    <a:ext cx="151308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7596360" y="5661000"/>
          <a:ext cx="1125360" cy="662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96360" y="5661000"/>
                    <a:ext cx="112536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What’s the process to align our data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4920" y="3068280"/>
            <a:ext cx="8497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dea: Rescale time with a </a:t>
            </a: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warping function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To do this, we need a “target” curv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an use a gold-standard curve, or use a mean curve, or iter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Time-warping function maps “clock time” to “hand time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2133720"/>
            <a:ext cx="4174920" cy="825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Continuous-Time Regi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280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First Problem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: Need curves to fit in same interv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Each curve </a:t>
            </a:r>
            <a:r>
              <a:rPr b="0" i="1" lang="en-CA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  lasts over interval [0, T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Want to rescale each curve to fit a target interval [0, T</a:t>
            </a:r>
            <a:r>
              <a:rPr b="0" lang="en-CA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olution: Find a time-warping function h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 such th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0) = 0 (starts at same tim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T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 = T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(ends at same tim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t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 &gt; h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t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 iff t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&gt; t</a:t>
            </a:r>
            <a:r>
              <a:rPr b="0" lang="en-CA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(events occur in same ord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Tahoma"/>
              </a:rPr>
              <a:t>Second Problem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: Want features of the curves to line up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Want the curves to differ only in amplitu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olution: Find a time-warping function h</a:t>
            </a:r>
            <a:r>
              <a:rPr b="0" lang="en-CA" sz="32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t) that minimizes a “misalignment” criter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Good one is M(h) = smallest eigenvalue of [matrix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When M(h) is close to zero, the registered curve values plot against the target curve values as a straight l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5ffff"/>
                </a:solidFill>
                <a:latin typeface="Tahoma"/>
              </a:rPr>
              <a:t>Can we register transformations of the curves, too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Yes!  It’s often better to register the derivatives of the curves than the curves themselv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More distinctive features available to alig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Sometimes closer to the process of interest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8:54:57Z</dcterms:created>
  <dc:creator>nuzzo</dc:creator>
  <dc:description/>
  <dc:language>en-US</dc:language>
  <cp:lastModifiedBy>ramsay</cp:lastModifiedBy>
  <dcterms:modified xsi:type="dcterms:W3CDTF">2004-02-28T01:47:16Z</dcterms:modified>
  <cp:revision>34</cp:revision>
  <dc:subject/>
  <dc:title>Handwriting: Registration </dc:title>
</cp:coreProperties>
</file>