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4E108-BC38-417E-A86F-E2C970861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I call the push/pull effect – the rate of change of tension, or the acceleration of the emotional level.  Again, when tension is rapidly increasing, that is, when the emotional level is accelerating, we feel a push from the music, just like the gas pedal in a car.  When the emotional level is decelerating, or when the tension is decreasing, we feel a strong musical pull, slowing us down.  And then when both derivatives are near zero, the music is iner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ice way to examine the dynamics of a system is to plot the first two derivatives using a phase-plane plot, acceleration versus velocity.  These plots are no explicit functions of time, so they can be circular.  With purely harmonic or sinusoidal behavior, we would get a circle.  High tension to the right, high resolution to the left, high push when the curve is at the top, and high pull when the curve is at the bottom.  Since music is very cyclical, this is an interesting model – like a pendulum swinging back and forth.  When the radius of the circle is large, there is much energy being transferred, when the radius is small, there is not much energy; when the curve is near zero, the system is close to inert, waiting for another push or pull to start it aga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ve done the phase plane plot for only part of the performance – second 25 to 45.  If you remember, around second 30 was where the big drop was, and the crucial period lasted until about second 65.  In text, I’ve plotted the second markers.  So here we see that there’s a push from second 26 to second 29, with a big buildup in tension until that drop at second 31.  Then we get a huge resolution and a “braking” of the system, and we use some of the kinetic musical energy to push us into the next piece of the music until we start to come to a nice restful period from second 36 on to 65.</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video only mean curve superimposed on the audio only curve.  Here we get a much smaller buildup of tension and a smaller push, although we do eventually get some resolution and pull, though it happens a bit earlier than for the audio only group.  The push starts earlier again and we quickly fall back into the inert stat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we have the audio + video group superimposed on the other two.  It’s interesting to see the shape of this – we get the same push and tension buildup, but the resolution isn’t quite as strong – and the little upswing push happens earlier, and it falls into the inert state again.  It’s as if it started out with the same as the audio group but then switched over to the video mo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agues at McGill study music psychology; interested in role of a performer’s gestures in a musical performance – do they add anything, detract, or no effect?  Convey emotion?  Convey same things as music by itself d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tudy this, they have developed a standard approach for collecting data – the subjects listen to a musical piece or watch a performance, and give continuous judgments of some measure – quality, interest, tension – using an one-dimensional optotrak slider which can collect information every 10 milliseconds.  This is functional data, powerful because collected in real-time instead of a snapshot measur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periment worked with a performance of Stravinksy’s 2</a:t>
            </a:r>
            <a:r>
              <a:rPr b="0" lang="en-US" sz="1200" spc="-1" strike="noStrike" baseline="30000">
                <a:solidFill>
                  <a:srgbClr val="000000"/>
                </a:solidFill>
                <a:latin typeface="Arial"/>
              </a:rPr>
              <a:t>nd</a:t>
            </a:r>
            <a:r>
              <a:rPr b="0" lang="en-US" sz="1200" spc="-1" strike="noStrike">
                <a:solidFill>
                  <a:srgbClr val="000000"/>
                </a:solidFill>
                <a:latin typeface="Arial"/>
              </a:rPr>
              <a:t> piece for solo clarinet recorded on video.  Thirty musically-trained subjects were randomized to one of three groups:  natural condition, which both watched and listened to the recording; the video only group, which watched the silent recording; and the audio only group, which listened to the recording without the video.  The subjects reported their continuous level of tension, which I will argue later is really their continuous level of emo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were 30 vectors of length 800 each, which were scaled to a 0 1 interval to standardize for each subject’s slider ran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en created functional objects from each vector, which means that each observation is now the entire curve instead of the 800 observations sampled along the curve.  Here I used 150 order 6 bsplines and then smoothed the curves slightly.  All the analyses were done using FDA software in Matlab, available from Jim Ramsay’s ftp 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ee that the audio only has a clear drop at about 30 seconds, which is less clearly present in the video only and the audio + video conditions.  My initial question for these data are the same as for any large data set:  how do these data vary?  What are the modes of variation found in these curv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functional PCA, the principal components have the same interpretation as in a multivariate PCA, except the components are now curves instead of vectors.  This plot shows the effect of the first principal component in a handy graphical display:  the dotted line in the mean curve, and the colored lines are the mean curve plus and minus a small multiple of the first principal component curve.  This way we can more clearly see the effect of the principal component on a given curve.  The red line is an example of an observation which scores high on the first principal component, and the blue line represents an observation with a low sc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just shown the effect of the first principal component here, which is very interesting:  The 25 – 65 second range is very crucial in separating out the observations.  In fact, a high score on this pc means that the peak here at 30 seconds is more strongly felt, with a sharp drop afterwards.  But a low score on this pc shows an attenuated curve, without much change after 30 seconds.  This leads me to think that the key is in the changes in emotion, more than the actual emotion level itself.</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 a simple functional linear model for this data, using the experimental conditions as predictors for the emotion judgment.  Again, the functional linear model has a similar interpretation to the scalar linear model, except now the coefficients are functions of time.  I’ve shown the fitted curves here for the three experimental groups.  The audio only group has a sharp peak at minute 30, the video only group has a fairly middling curve, and the audio + video group mostly parallels the audio only group in the beginning but then starts to separate after second 30.  But I’m still interested in what’s going in the changes of emotion here and wondering how I can quantify th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nking about it, I decided that the continuous judgments here are really measures of musical emotion.  And what I call tension/resolution is the rate of change of emotional level (which is the first derivative, or the velocity).  When emotion is quickly changing, we feel a strong tension or resolution.  When emotion is constantly low or constantly high, there is little tension or resolution – that comes from the dynamics.  We can think about it and realize that when emotion is rapidly increasing, music has a strong tension.  When emotional level is rapidly decreasing, we feel a strong resolution.  That’s the first derivative – you might be looking ahead and wondering about the second deriva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5E6CF-87F5-4905-9539-E71674B0A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23C02-5B8B-4172-B996-1A40D8FAD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484E9-0BAF-4FBA-893B-8672F5FA1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EF8B9-48D5-46C0-A04A-FBAD866DA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7EEDA-9DA2-44E9-8A9B-357B3C0931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01F1F-0F8D-40D0-B069-D39006388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78AD4-81FB-4DC8-802E-7508A12E5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89BE4-FD8B-402F-AB27-324E0D348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1C43F-E9AC-4107-9508-036F7915F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1C1EB7-96C9-419D-9341-55BE77C25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7FBAB-9BCA-4605-9381-05DF5822E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B6EC3-2027-4275-B509-9C3E0AF8A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36D52-E35A-4075-85E2-8A17440FE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53DA7-58D2-4995-8643-A4F703244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5E175-794A-46E5-AF38-D94F79779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C1D8B1-51EF-4764-B17B-2F7BB38F0C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F5FCE1-2598-4F64-A369-91780F062B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2CF6C-D400-4ED6-9618-D1CA4173F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E54B4-F864-472A-A616-D4D08618E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B0AB5-985A-449A-8D58-339C9455C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939EE-416F-40E0-B370-C2E811C76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F9F66-3AD9-491F-BE40-B93DFA9D1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C69CE-B434-4A15-9E18-634703124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5ECAE-6691-47B7-8BC4-739DA25E8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DAB97-169A-45A9-948E-1843547C00A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84C4-AC5C-4186-B59D-A98BDCCC815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hyperlink" Target="C:\Documents and Settings\Regina\My Documents\halifax\stuff for halifax\Experiment_ws2st1.mov" TargetMode="Externa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hyperlink" Target="C:\Documents and Settings\Regina\My Documents\halifax\stuff for halifax\Experiment_ws2st1.mov"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hyperlink" Target="C:\Documents and Settings\Regina\My Documents\halifax\stuff for halifax\Experiment_ws2st1.mov"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C:\Documents and Settings\Regina\My Documents\halifax\stuff for halifax\Experiment_ws2st1.mov" TargetMode="External"/><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C:\Documents and Settings\Regina\My Documents\halifax\stuff for halifax\Experiment_ws2st1.mov"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e5ffff"/>
                </a:solidFill>
                <a:latin typeface="Tahoma"/>
              </a:rPr>
              <a:t>Functional Data Analysis of Continuous Judgments in Music Cognition</a:t>
            </a:r>
            <a:endParaRPr b="0" lang="en-US" sz="4000" spc="-1" strike="noStrike">
              <a:solidFill>
                <a:srgbClr val="e5ffff"/>
              </a:solidFill>
              <a:latin typeface="Tahoma"/>
            </a:endParaRPr>
          </a:p>
        </p:txBody>
      </p:sp>
      <p:pic>
        <p:nvPicPr>
          <p:cNvPr id="89" name="" descr=""/>
          <p:cNvPicPr/>
          <p:nvPr/>
        </p:nvPicPr>
        <p:blipFill>
          <a:blip r:embed="rId2"/>
          <a:srcRect l="4375" t="0" r="6250" b="0"/>
          <a:stretch/>
        </p:blipFill>
        <p:spPr>
          <a:xfrm>
            <a:off x="1979640" y="227664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Derivatives describe music dynamics: Force/Release</a:t>
            </a:r>
            <a:endParaRPr b="0" lang="en-US" sz="4000" spc="-1" strike="noStrike">
              <a:solidFill>
                <a:srgbClr val="e5ffff"/>
              </a:solidFill>
              <a:latin typeface="Tahoma"/>
            </a:endParaRPr>
          </a:p>
        </p:txBody>
      </p:sp>
      <p:sp>
        <p:nvSpPr>
          <p:cNvPr id="115"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a:t>
            </a:r>
            <a:r>
              <a:rPr b="1" i="1" lang="en-US" sz="3200" spc="-1" strike="noStrike">
                <a:solidFill>
                  <a:srgbClr val="ffffff"/>
                </a:solidFill>
                <a:latin typeface="Tahoma"/>
              </a:rPr>
              <a:t>Force/Release’</a:t>
            </a:r>
            <a:r>
              <a:rPr b="0" lang="en-US" sz="3200" spc="-1" strike="noStrike">
                <a:solidFill>
                  <a:srgbClr val="ffffff"/>
                </a:solidFill>
                <a:latin typeface="Tahoma"/>
              </a:rPr>
              <a:t>  is rate of change of tension (acceleration).</a:t>
            </a:r>
            <a:endParaRPr b="0" lang="en-US" sz="3200" spc="-1" strike="noStrike">
              <a:solidFill>
                <a:srgbClr val="ffffff"/>
              </a:solidFill>
              <a:latin typeface="Tahoma"/>
            </a:endParaRPr>
          </a:p>
          <a:p>
            <a:pPr lvl="1" marL="676080" indent="-2599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ension is rapidly increasing, we feel a musical </a:t>
            </a:r>
            <a:r>
              <a:rPr b="1" i="1" lang="en-US" sz="2800" spc="-1" strike="noStrike">
                <a:solidFill>
                  <a:srgbClr val="ffffff"/>
                </a:solidFill>
                <a:latin typeface="Tahoma"/>
              </a:rPr>
              <a:t>force</a:t>
            </a:r>
            <a:r>
              <a:rPr b="0" lang="en-US" sz="2800" spc="-1" strike="noStrike">
                <a:solidFill>
                  <a:srgbClr val="ffffff"/>
                </a:solidFill>
                <a:latin typeface="Tahoma"/>
              </a:rPr>
              <a:t>.</a:t>
            </a:r>
            <a:endParaRPr b="0" lang="en-US" sz="2800" spc="-1" strike="noStrike">
              <a:solidFill>
                <a:srgbClr val="ffffff"/>
              </a:solidFill>
              <a:latin typeface="Tahoma"/>
            </a:endParaRPr>
          </a:p>
          <a:p>
            <a:pPr lvl="1" marL="676080" indent="-25992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ension is rapidly decreasing, we feel a musical </a:t>
            </a:r>
            <a:r>
              <a:rPr b="1" i="1" lang="en-US" sz="2800" spc="-1" strike="noStrike">
                <a:solidFill>
                  <a:srgbClr val="ffffff"/>
                </a:solidFill>
                <a:latin typeface="Tahoma"/>
              </a:rPr>
              <a:t>release</a:t>
            </a:r>
            <a:r>
              <a:rPr b="0" lang="en-US" sz="2800" spc="-1" strike="noStrike">
                <a:solidFill>
                  <a:srgbClr val="ffffff"/>
                </a:solidFill>
                <a:latin typeface="Tahoma"/>
              </a:rPr>
              <a:t>.</a:t>
            </a:r>
            <a:endParaRPr b="0" lang="en-US" sz="2800" spc="-1" strike="noStrike">
              <a:solidFill>
                <a:srgbClr val="ffffff"/>
              </a:solidFill>
              <a:latin typeface="Tahoma"/>
            </a:endParaRPr>
          </a:p>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both derivatives are near zero, music is inert (the “new age/massage music” effec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hase-Plane Plots</a:t>
            </a:r>
            <a:endParaRPr b="0" lang="en-US" sz="4400" spc="-1" strike="noStrike">
              <a:solidFill>
                <a:srgbClr val="e5ffff"/>
              </a:solidFill>
              <a:latin typeface="Tahoma"/>
            </a:endParaRPr>
          </a:p>
        </p:txBody>
      </p:sp>
      <p:sp>
        <p:nvSpPr>
          <p:cNvPr id="117"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examine dynamics with plot of acceleration vs velocity.</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rely harmonic behavior gives a circle.</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larger the radius, the more musical energy transfer.</a:t>
            </a:r>
            <a:endParaRPr b="0" lang="en-US" sz="2800" spc="-1" strike="noStrike">
              <a:solidFill>
                <a:srgbClr val="ffffff"/>
              </a:solidFill>
              <a:latin typeface="Tahoma"/>
            </a:endParaRPr>
          </a:p>
        </p:txBody>
      </p:sp>
      <p:pic>
        <p:nvPicPr>
          <p:cNvPr id="118" name="" descr=""/>
          <p:cNvPicPr/>
          <p:nvPr/>
        </p:nvPicPr>
        <p:blipFill>
          <a:blip r:embed="rId2"/>
          <a:srcRect l="6250" t="4167" r="6250" b="4167"/>
          <a:stretch/>
        </p:blipFill>
        <p:spPr>
          <a:xfrm>
            <a:off x="4500720" y="1844640"/>
            <a:ext cx="4464000" cy="3505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rcRect l="4375" t="0" r="6250" b="0"/>
          <a:stretch/>
        </p:blipFill>
        <p:spPr>
          <a:xfrm>
            <a:off x="0" y="0"/>
            <a:ext cx="8172360" cy="6858000"/>
          </a:xfrm>
          <a:prstGeom prst="rect">
            <a:avLst/>
          </a:prstGeom>
          <a:ln w="0">
            <a:noFill/>
          </a:ln>
        </p:spPr>
      </p:pic>
      <p:sp>
        <p:nvSpPr>
          <p:cNvPr id="120" name="">
            <a:hlinkClick r:id="rId3"/>
          </p:cNvPr>
          <p:cNvSpPr/>
          <p:nvPr/>
        </p:nvSpPr>
        <p:spPr>
          <a:xfrm>
            <a:off x="8388360" y="4005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7301"/>
                </a:moveTo>
                <a:lnTo>
                  <a:pt x="6534" y="7301"/>
                </a:lnTo>
                <a:lnTo>
                  <a:pt x="6917" y="7667"/>
                </a:lnTo>
                <a:lnTo>
                  <a:pt x="16126" y="7667"/>
                </a:lnTo>
                <a:lnTo>
                  <a:pt x="16683" y="8224"/>
                </a:lnTo>
                <a:lnTo>
                  <a:pt x="16683" y="8772"/>
                </a:lnTo>
                <a:lnTo>
                  <a:pt x="18528" y="8772"/>
                </a:lnTo>
                <a:lnTo>
                  <a:pt x="18894" y="8224"/>
                </a:lnTo>
                <a:lnTo>
                  <a:pt x="19633" y="8224"/>
                </a:lnTo>
                <a:lnTo>
                  <a:pt x="19633" y="13376"/>
                </a:lnTo>
                <a:lnTo>
                  <a:pt x="18894" y="13376"/>
                </a:lnTo>
                <a:lnTo>
                  <a:pt x="18528" y="12828"/>
                </a:lnTo>
                <a:lnTo>
                  <a:pt x="16683" y="12828"/>
                </a:lnTo>
                <a:lnTo>
                  <a:pt x="16683" y="14107"/>
                </a:lnTo>
                <a:lnTo>
                  <a:pt x="7100" y="14107"/>
                </a:lnTo>
                <a:lnTo>
                  <a:pt x="7100" y="9877"/>
                </a:lnTo>
                <a:lnTo>
                  <a:pt x="6917" y="9877"/>
                </a:lnTo>
                <a:lnTo>
                  <a:pt x="6534" y="10243"/>
                </a:lnTo>
                <a:lnTo>
                  <a:pt x="5621" y="10243"/>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 name="" descr=""/>
          <p:cNvPicPr/>
          <p:nvPr/>
        </p:nvPicPr>
        <p:blipFill>
          <a:blip r:embed="rId2"/>
          <a:srcRect l="4375" t="0" r="6250" b="0"/>
          <a:stretch/>
        </p:blipFill>
        <p:spPr>
          <a:xfrm>
            <a:off x="0" y="0"/>
            <a:ext cx="8172360" cy="6859440"/>
          </a:xfrm>
          <a:prstGeom prst="rect">
            <a:avLst/>
          </a:prstGeom>
          <a:ln w="0">
            <a:noFill/>
          </a:ln>
        </p:spPr>
      </p:pic>
      <p:sp>
        <p:nvSpPr>
          <p:cNvPr id="122" name="">
            <a:hlinkClick r:id="rId3"/>
          </p:cNvPr>
          <p:cNvSpPr/>
          <p:nvPr/>
        </p:nvSpPr>
        <p:spPr>
          <a:xfrm>
            <a:off x="8388360" y="4005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7301"/>
                </a:moveTo>
                <a:lnTo>
                  <a:pt x="6534" y="7301"/>
                </a:lnTo>
                <a:lnTo>
                  <a:pt x="6917" y="7667"/>
                </a:lnTo>
                <a:lnTo>
                  <a:pt x="16126" y="7667"/>
                </a:lnTo>
                <a:lnTo>
                  <a:pt x="16683" y="8224"/>
                </a:lnTo>
                <a:lnTo>
                  <a:pt x="16683" y="8772"/>
                </a:lnTo>
                <a:lnTo>
                  <a:pt x="18528" y="8772"/>
                </a:lnTo>
                <a:lnTo>
                  <a:pt x="18894" y="8224"/>
                </a:lnTo>
                <a:lnTo>
                  <a:pt x="19633" y="8224"/>
                </a:lnTo>
                <a:lnTo>
                  <a:pt x="19633" y="13376"/>
                </a:lnTo>
                <a:lnTo>
                  <a:pt x="18894" y="13376"/>
                </a:lnTo>
                <a:lnTo>
                  <a:pt x="18528" y="12828"/>
                </a:lnTo>
                <a:lnTo>
                  <a:pt x="16683" y="12828"/>
                </a:lnTo>
                <a:lnTo>
                  <a:pt x="16683" y="14107"/>
                </a:lnTo>
                <a:lnTo>
                  <a:pt x="7100" y="14107"/>
                </a:lnTo>
                <a:lnTo>
                  <a:pt x="7100" y="9877"/>
                </a:lnTo>
                <a:lnTo>
                  <a:pt x="6917" y="9877"/>
                </a:lnTo>
                <a:lnTo>
                  <a:pt x="6534" y="10243"/>
                </a:lnTo>
                <a:lnTo>
                  <a:pt x="5621" y="10243"/>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rcRect l="4375" t="0" r="6250" b="0"/>
          <a:stretch/>
        </p:blipFill>
        <p:spPr>
          <a:xfrm>
            <a:off x="0" y="0"/>
            <a:ext cx="8172360" cy="6858000"/>
          </a:xfrm>
          <a:prstGeom prst="rect">
            <a:avLst/>
          </a:prstGeom>
          <a:ln w="0">
            <a:noFill/>
          </a:ln>
        </p:spPr>
      </p:pic>
      <p:sp>
        <p:nvSpPr>
          <p:cNvPr id="124" name="">
            <a:hlinkClick r:id="rId3"/>
          </p:cNvPr>
          <p:cNvSpPr/>
          <p:nvPr/>
        </p:nvSpPr>
        <p:spPr>
          <a:xfrm>
            <a:off x="8388360" y="4005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7301"/>
                </a:moveTo>
                <a:lnTo>
                  <a:pt x="6534" y="7301"/>
                </a:lnTo>
                <a:lnTo>
                  <a:pt x="6917" y="7667"/>
                </a:lnTo>
                <a:lnTo>
                  <a:pt x="16126" y="7667"/>
                </a:lnTo>
                <a:lnTo>
                  <a:pt x="16683" y="8224"/>
                </a:lnTo>
                <a:lnTo>
                  <a:pt x="16683" y="8772"/>
                </a:lnTo>
                <a:lnTo>
                  <a:pt x="18528" y="8772"/>
                </a:lnTo>
                <a:lnTo>
                  <a:pt x="18894" y="8224"/>
                </a:lnTo>
                <a:lnTo>
                  <a:pt x="19633" y="8224"/>
                </a:lnTo>
                <a:lnTo>
                  <a:pt x="19633" y="13376"/>
                </a:lnTo>
                <a:lnTo>
                  <a:pt x="18894" y="13376"/>
                </a:lnTo>
                <a:lnTo>
                  <a:pt x="18528" y="12828"/>
                </a:lnTo>
                <a:lnTo>
                  <a:pt x="16683" y="12828"/>
                </a:lnTo>
                <a:lnTo>
                  <a:pt x="16683" y="14107"/>
                </a:lnTo>
                <a:lnTo>
                  <a:pt x="7100" y="14107"/>
                </a:lnTo>
                <a:lnTo>
                  <a:pt x="7100" y="9877"/>
                </a:lnTo>
                <a:lnTo>
                  <a:pt x="6917" y="9877"/>
                </a:lnTo>
                <a:lnTo>
                  <a:pt x="6534" y="10243"/>
                </a:lnTo>
                <a:lnTo>
                  <a:pt x="5621" y="10243"/>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076720" y="188640"/>
            <a:ext cx="3888000" cy="6553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5 – 33 s: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UDIO: high volume, note density, and pitch; end of musical phrase </a:t>
            </a: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tension then strong resolution; big energy transfer</a:t>
            </a:r>
            <a:endParaRPr b="0" lang="en-US" sz="18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IDEO: routine gestures; then dramatic flourish </a:t>
            </a: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low tension and small resolution; moderate pull with flourish; small energy transfer</a:t>
            </a:r>
            <a:endParaRPr b="0" lang="en-US" sz="1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3 – 65 s: </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UDIO: decrease in volume (mezzo forte to pianissimo), note density, and pitch</a:t>
            </a: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continued resolution; push from new phrase; back to inertness</a:t>
            </a:r>
            <a:endParaRPr b="0" lang="en-US" sz="18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IDEO: eyebrow and body movements </a:t>
            </a:r>
            <a:endParaRPr b="0" lang="en-US" sz="2000" spc="-1" strike="noStrike">
              <a:solidFill>
                <a:srgbClr val="ffffff"/>
              </a:solidFill>
              <a:latin typeface="Tahoma"/>
            </a:endParaRPr>
          </a:p>
          <a:p>
            <a:pPr lvl="1" marL="743040" indent="-28584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push from new phrase, moderate tension from movements</a:t>
            </a:r>
            <a:endParaRPr b="0" lang="en-US" sz="1800" spc="-1" strike="noStrike">
              <a:solidFill>
                <a:srgbClr val="ffffff"/>
              </a:solidFill>
              <a:latin typeface="Tahoma"/>
            </a:endParaRPr>
          </a:p>
        </p:txBody>
      </p:sp>
      <p:sp>
        <p:nvSpPr>
          <p:cNvPr id="126" name="">
            <a:hlinkClick r:id="rId2"/>
          </p:cNvPr>
          <p:cNvSpPr/>
          <p:nvPr/>
        </p:nvSpPr>
        <p:spPr>
          <a:xfrm>
            <a:off x="1403280" y="5445000"/>
            <a:ext cx="1727280" cy="720720"/>
          </a:xfrm>
          <a:custGeom>
            <a:avLst/>
            <a:gdLst>
              <a:gd name="textAreaLeft" fmla="*/ 46440 w 1727280"/>
              <a:gd name="textAreaRight" fmla="*/ 1680840 w 1727280"/>
              <a:gd name="textAreaTop" fmla="*/ 46440 h 720720"/>
              <a:gd name="textAreaBottom" fmla="*/ 674280 h 720720"/>
            </a:gdLst>
            <a:ahLst/>
            <a:rect l="textAreaLeft" t="textAreaTop" r="textAreaRight" b="textAreaBottom"/>
            <a:pathLst>
              <a:path w="51752" h="21600">
                <a:moveTo>
                  <a:pt x="0" y="0"/>
                </a:moveTo>
                <a:lnTo>
                  <a:pt x="51752" y="0"/>
                </a:lnTo>
                <a:lnTo>
                  <a:pt x="51752" y="21600"/>
                </a:lnTo>
                <a:lnTo>
                  <a:pt x="0" y="21600"/>
                </a:lnTo>
                <a:close/>
              </a:path>
              <a:path fill="lightenLess" w="51752" h="21600">
                <a:moveTo>
                  <a:pt x="0" y="0"/>
                </a:moveTo>
                <a:lnTo>
                  <a:pt x="51752" y="0"/>
                </a:lnTo>
                <a:lnTo>
                  <a:pt x="50352" y="1400"/>
                </a:lnTo>
                <a:lnTo>
                  <a:pt x="1400" y="1400"/>
                </a:lnTo>
                <a:close/>
              </a:path>
              <a:path fill="darken" w="51752" h="21600">
                <a:moveTo>
                  <a:pt x="51752" y="0"/>
                </a:moveTo>
                <a:lnTo>
                  <a:pt x="51752" y="21600"/>
                </a:lnTo>
                <a:lnTo>
                  <a:pt x="50352" y="20200"/>
                </a:lnTo>
                <a:lnTo>
                  <a:pt x="50352" y="1400"/>
                </a:lnTo>
                <a:close/>
              </a:path>
              <a:path fill="darkenLess" w="51752" h="21600">
                <a:moveTo>
                  <a:pt x="51752" y="21600"/>
                </a:moveTo>
                <a:lnTo>
                  <a:pt x="0" y="21600"/>
                </a:lnTo>
                <a:lnTo>
                  <a:pt x="1400" y="20200"/>
                </a:lnTo>
                <a:lnTo>
                  <a:pt x="50352" y="20200"/>
                </a:lnTo>
                <a:close/>
              </a:path>
              <a:path fill="lighten" w="51752" h="21600">
                <a:moveTo>
                  <a:pt x="0" y="21600"/>
                </a:moveTo>
                <a:lnTo>
                  <a:pt x="0" y="0"/>
                </a:lnTo>
                <a:lnTo>
                  <a:pt x="1400" y="1400"/>
                </a:lnTo>
                <a:lnTo>
                  <a:pt x="1400" y="20200"/>
                </a:lnTo>
                <a:close/>
              </a:path>
              <a:path fill="darken" w="51752" h="21600">
                <a:moveTo>
                  <a:pt x="18869" y="7301"/>
                </a:moveTo>
                <a:lnTo>
                  <a:pt x="19783" y="7301"/>
                </a:lnTo>
                <a:lnTo>
                  <a:pt x="20166" y="7667"/>
                </a:lnTo>
                <a:lnTo>
                  <a:pt x="29375" y="7667"/>
                </a:lnTo>
                <a:lnTo>
                  <a:pt x="29932" y="8224"/>
                </a:lnTo>
                <a:lnTo>
                  <a:pt x="29932" y="8772"/>
                </a:lnTo>
                <a:lnTo>
                  <a:pt x="31777" y="8772"/>
                </a:lnTo>
                <a:lnTo>
                  <a:pt x="32142" y="8224"/>
                </a:lnTo>
                <a:lnTo>
                  <a:pt x="32882" y="8224"/>
                </a:lnTo>
                <a:lnTo>
                  <a:pt x="32882" y="13376"/>
                </a:lnTo>
                <a:lnTo>
                  <a:pt x="32142" y="13376"/>
                </a:lnTo>
                <a:lnTo>
                  <a:pt x="31777" y="12828"/>
                </a:lnTo>
                <a:lnTo>
                  <a:pt x="29932" y="12828"/>
                </a:lnTo>
                <a:lnTo>
                  <a:pt x="29932" y="14107"/>
                </a:lnTo>
                <a:lnTo>
                  <a:pt x="20349" y="14107"/>
                </a:lnTo>
                <a:lnTo>
                  <a:pt x="20349" y="9877"/>
                </a:lnTo>
                <a:lnTo>
                  <a:pt x="20166" y="9877"/>
                </a:lnTo>
                <a:lnTo>
                  <a:pt x="19783" y="10243"/>
                </a:lnTo>
                <a:lnTo>
                  <a:pt x="18869" y="10243"/>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7" name="" descr=""/>
          <p:cNvPicPr/>
          <p:nvPr/>
        </p:nvPicPr>
        <p:blipFill>
          <a:blip r:embed="rId3"/>
          <a:srcRect l="4375" t="0" r="6250" b="0"/>
          <a:stretch/>
        </p:blipFill>
        <p:spPr>
          <a:xfrm>
            <a:off x="179280" y="333360"/>
            <a:ext cx="4824360" cy="404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New application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PCA as explora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Derivatives have physical (and scientific) mean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Phase-Plane plots highlight relationships</a:t>
            </a:r>
            <a:endParaRPr b="0" lang="en-US" sz="3200" spc="-1" strike="noStrike">
              <a:solidFill>
                <a:srgbClr val="ffffff"/>
              </a:solidFill>
              <a:latin typeface="Tahoma"/>
            </a:endParaRPr>
          </a:p>
        </p:txBody>
      </p:sp>
      <p:sp>
        <p:nvSpPr>
          <p:cNvPr id="129" name="PlaceHolder 2"/>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What have we learned?</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Gesture in Musical Performance</a:t>
            </a:r>
            <a:endParaRPr b="0" lang="en-US" sz="44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What role do a musician’s gestures play in a performance?</a:t>
            </a:r>
            <a:endParaRPr b="0" lang="en-US" sz="2400" spc="-1" strike="noStrike">
              <a:solidFill>
                <a:srgbClr val="ffffff"/>
              </a:solidFill>
              <a:latin typeface="Tahoma"/>
            </a:endParaRPr>
          </a:p>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Do they convey emotion?</a:t>
            </a:r>
            <a:endParaRPr b="0" lang="en-US" sz="2400" spc="-1" strike="noStrike">
              <a:solidFill>
                <a:srgbClr val="ffffff"/>
              </a:solidFill>
              <a:latin typeface="Tahoma"/>
            </a:endParaRPr>
          </a:p>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Do gestures convey the same things as does the music?</a:t>
            </a: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Popular study in field of music psychology</a:t>
            </a:r>
            <a:endParaRPr b="0" lang="en-US" sz="2400" spc="-1" strike="noStrike">
              <a:solidFill>
                <a:srgbClr val="ffffff"/>
              </a:solidFill>
              <a:latin typeface="Tahoma"/>
            </a:endParaRPr>
          </a:p>
          <a:p>
            <a:pPr marL="335880" indent="-3358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a on listener’s emotions are collected in real-time</a:t>
            </a:r>
            <a:endParaRPr b="0" lang="en-US" sz="24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With a real-time Optotrak slider, which</a:t>
            </a:r>
            <a:endParaRPr b="0" lang="en-US" sz="2000" spc="-1" strike="noStrike">
              <a:solidFill>
                <a:srgbClr val="ffffff"/>
              </a:solidFill>
              <a:latin typeface="Tahoma"/>
            </a:endParaRPr>
          </a:p>
          <a:p>
            <a:pPr lvl="1" marL="727920" indent="-28008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Measures location of the slider 10 times per second.</a:t>
            </a:r>
            <a:endParaRPr b="0" lang="en-US" sz="2000" spc="-1" strike="noStrike">
              <a:solidFill>
                <a:srgbClr val="ffffff"/>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2" name=""/>
          <p:cNvSpPr/>
          <p:nvPr/>
        </p:nvSpPr>
        <p:spPr>
          <a:xfrm>
            <a:off x="250920" y="328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Continuous Judgments of Music</a:t>
            </a:r>
            <a:endParaRPr b="0" lang="en-US" sz="4400" spc="-1" strike="noStrike">
              <a:solidFill>
                <a:srgbClr val="ffffff"/>
              </a:solidFill>
              <a:latin typeface="Arial"/>
            </a:endParaRPr>
          </a:p>
        </p:txBody>
      </p:sp>
      <p:pic>
        <p:nvPicPr>
          <p:cNvPr id="93" name="" descr=""/>
          <p:cNvPicPr/>
          <p:nvPr/>
        </p:nvPicPr>
        <p:blipFill>
          <a:blip r:embed="rId2"/>
          <a:stretch/>
        </p:blipFill>
        <p:spPr>
          <a:xfrm>
            <a:off x="6629400" y="5715000"/>
            <a:ext cx="25146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e5ffff"/>
                </a:solidFill>
                <a:latin typeface="Tahoma"/>
              </a:rPr>
              <a:t>The Tension &amp; Gesture Experiment</a:t>
            </a:r>
            <a:endParaRPr b="0" lang="en-US" sz="4000" spc="-1" strike="noStrike">
              <a:solidFill>
                <a:srgbClr val="e5ffff"/>
              </a:solidFill>
              <a:latin typeface="Tahoma"/>
            </a:endParaRPr>
          </a:p>
        </p:txBody>
      </p:sp>
      <p:sp>
        <p:nvSpPr>
          <p:cNvPr id="95" name="PlaceHolder 2"/>
          <p:cNvSpPr>
            <a:spLocks noGrp="1"/>
          </p:cNvSpPr>
          <p:nvPr>
            <p:ph/>
          </p:nvPr>
        </p:nvSpPr>
        <p:spPr>
          <a:xfrm>
            <a:off x="468360" y="170028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Musical performance recorded on video</a:t>
            </a:r>
            <a:endParaRPr b="0" lang="en-US" sz="3200" spc="-1" strike="noStrike">
              <a:solidFill>
                <a:srgbClr val="ffffff"/>
              </a:solidFill>
              <a:latin typeface="Tahoma"/>
            </a:endParaRPr>
          </a:p>
          <a:p>
            <a:pPr lvl="1" marL="705600" indent="-2714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travinsky’s 2</a:t>
            </a:r>
            <a:r>
              <a:rPr b="0" lang="en-CA" sz="2800" spc="-1" strike="noStrike" baseline="30000">
                <a:solidFill>
                  <a:srgbClr val="ffffff"/>
                </a:solidFill>
                <a:latin typeface="Tahoma"/>
              </a:rPr>
              <a:t>nd</a:t>
            </a:r>
            <a:r>
              <a:rPr b="0" lang="en-CA" sz="2800" spc="-1" strike="noStrike">
                <a:solidFill>
                  <a:srgbClr val="ffffff"/>
                </a:solidFill>
                <a:latin typeface="Tahoma"/>
              </a:rPr>
              <a:t> Piece for Solo Clarinet</a:t>
            </a:r>
            <a:endParaRPr b="0" lang="en-US" sz="2800" spc="-1" strike="noStrike">
              <a:solidFill>
                <a:srgbClr val="ffffff"/>
              </a:solidFill>
              <a:latin typeface="Tahoma"/>
            </a:endParaRPr>
          </a:p>
          <a:p>
            <a:pPr marL="325800" indent="-3258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30 musically-trained participants either</a:t>
            </a:r>
            <a:endParaRPr b="0" lang="en-US" sz="3200" spc="-1" strike="noStrike">
              <a:solidFill>
                <a:srgbClr val="ffffff"/>
              </a:solidFill>
              <a:latin typeface="Tahoma"/>
            </a:endParaRPr>
          </a:p>
          <a:p>
            <a:pPr lvl="1" marL="705600" indent="-2714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Watched &amp; Listened to the recording (Natural)</a:t>
            </a:r>
            <a:endParaRPr b="0" lang="en-US" sz="2800" spc="-1" strike="noStrike">
              <a:solidFill>
                <a:srgbClr val="ffffff"/>
              </a:solidFill>
              <a:latin typeface="Tahoma"/>
            </a:endParaRPr>
          </a:p>
          <a:p>
            <a:pPr lvl="1" marL="705600" indent="-2714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Watched the silent recording (Video Only), or</a:t>
            </a:r>
            <a:endParaRPr b="0" lang="en-US" sz="2800" spc="-1" strike="noStrike">
              <a:solidFill>
                <a:srgbClr val="ffffff"/>
              </a:solidFill>
              <a:latin typeface="Tahoma"/>
            </a:endParaRPr>
          </a:p>
          <a:p>
            <a:pPr lvl="1" marL="705600" indent="-2714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Listened to the recording (Audio Only).</a:t>
            </a:r>
            <a:endParaRPr b="0" lang="en-US" sz="2800" spc="-1" strike="noStrike">
              <a:solidFill>
                <a:srgbClr val="ffffff"/>
              </a:solidFill>
              <a:latin typeface="Tahoma"/>
            </a:endParaRPr>
          </a:p>
          <a:p>
            <a:pPr marL="325800" indent="-3258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nd reported their continuous “level of tension [emotion]”.</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
            <a:hlinkClick r:id="rId2"/>
          </p:cNvPr>
          <p:cNvSpPr/>
          <p:nvPr/>
        </p:nvSpPr>
        <p:spPr>
          <a:xfrm>
            <a:off x="7164360" y="5661000"/>
            <a:ext cx="934920" cy="576360"/>
          </a:xfrm>
          <a:custGeom>
            <a:avLst/>
            <a:gdLst>
              <a:gd name="textAreaLeft" fmla="*/ 37080 w 934920"/>
              <a:gd name="textAreaRight" fmla="*/ 897840 w 934920"/>
              <a:gd name="textAreaTop" fmla="*/ 37080 h 576360"/>
              <a:gd name="textAreaBottom" fmla="*/ 539280 h 576360"/>
            </a:gdLst>
            <a:ahLst/>
            <a:rect l="textAreaLeft" t="textAreaTop" r="textAreaRight" b="textAreaBottom"/>
            <a:pathLst>
              <a:path w="35029" h="21600">
                <a:moveTo>
                  <a:pt x="0" y="0"/>
                </a:moveTo>
                <a:lnTo>
                  <a:pt x="35029" y="0"/>
                </a:lnTo>
                <a:lnTo>
                  <a:pt x="35029" y="21600"/>
                </a:lnTo>
                <a:lnTo>
                  <a:pt x="0" y="21600"/>
                </a:lnTo>
                <a:close/>
              </a:path>
              <a:path fill="lightenLess" w="35029" h="21600">
                <a:moveTo>
                  <a:pt x="0" y="0"/>
                </a:moveTo>
                <a:lnTo>
                  <a:pt x="35029" y="0"/>
                </a:lnTo>
                <a:lnTo>
                  <a:pt x="33629" y="1400"/>
                </a:lnTo>
                <a:lnTo>
                  <a:pt x="1400" y="1400"/>
                </a:lnTo>
                <a:close/>
              </a:path>
              <a:path fill="darken" w="35029" h="21600">
                <a:moveTo>
                  <a:pt x="35029" y="0"/>
                </a:moveTo>
                <a:lnTo>
                  <a:pt x="35029" y="21600"/>
                </a:lnTo>
                <a:lnTo>
                  <a:pt x="33629" y="20200"/>
                </a:lnTo>
                <a:lnTo>
                  <a:pt x="33629" y="1400"/>
                </a:lnTo>
                <a:close/>
              </a:path>
              <a:path fill="darkenLess" w="35029" h="21600">
                <a:moveTo>
                  <a:pt x="35029" y="21600"/>
                </a:moveTo>
                <a:lnTo>
                  <a:pt x="0" y="21600"/>
                </a:lnTo>
                <a:lnTo>
                  <a:pt x="1400" y="20200"/>
                </a:lnTo>
                <a:lnTo>
                  <a:pt x="33629" y="20200"/>
                </a:lnTo>
                <a:close/>
              </a:path>
              <a:path fill="lighten" w="35029" h="21600">
                <a:moveTo>
                  <a:pt x="0" y="21600"/>
                </a:moveTo>
                <a:lnTo>
                  <a:pt x="0" y="0"/>
                </a:lnTo>
                <a:lnTo>
                  <a:pt x="1400" y="1400"/>
                </a:lnTo>
                <a:lnTo>
                  <a:pt x="1400" y="20200"/>
                </a:lnTo>
                <a:close/>
              </a:path>
              <a:path fill="darken" w="35029" h="21600">
                <a:moveTo>
                  <a:pt x="10508" y="7301"/>
                </a:moveTo>
                <a:lnTo>
                  <a:pt x="11422" y="7301"/>
                </a:lnTo>
                <a:lnTo>
                  <a:pt x="11805" y="7667"/>
                </a:lnTo>
                <a:lnTo>
                  <a:pt x="21013" y="7667"/>
                </a:lnTo>
                <a:lnTo>
                  <a:pt x="21571" y="8224"/>
                </a:lnTo>
                <a:lnTo>
                  <a:pt x="21571" y="8772"/>
                </a:lnTo>
                <a:lnTo>
                  <a:pt x="23416" y="8772"/>
                </a:lnTo>
                <a:lnTo>
                  <a:pt x="23781" y="8224"/>
                </a:lnTo>
                <a:lnTo>
                  <a:pt x="24521" y="8224"/>
                </a:lnTo>
                <a:lnTo>
                  <a:pt x="24521" y="13376"/>
                </a:lnTo>
                <a:lnTo>
                  <a:pt x="23781" y="13376"/>
                </a:lnTo>
                <a:lnTo>
                  <a:pt x="23416" y="12828"/>
                </a:lnTo>
                <a:lnTo>
                  <a:pt x="21571" y="12828"/>
                </a:lnTo>
                <a:lnTo>
                  <a:pt x="21571" y="14107"/>
                </a:lnTo>
                <a:lnTo>
                  <a:pt x="11988" y="14107"/>
                </a:lnTo>
                <a:lnTo>
                  <a:pt x="11988" y="9877"/>
                </a:lnTo>
                <a:lnTo>
                  <a:pt x="11805" y="9877"/>
                </a:lnTo>
                <a:lnTo>
                  <a:pt x="11422" y="10243"/>
                </a:lnTo>
                <a:lnTo>
                  <a:pt x="10508" y="10243"/>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The Data</a:t>
            </a:r>
            <a:endParaRPr b="0" lang="en-US" sz="4400" spc="-1" strike="noStrike">
              <a:solidFill>
                <a:srgbClr val="e5ffff"/>
              </a:solidFill>
              <a:latin typeface="Tahoma"/>
            </a:endParaRPr>
          </a:p>
        </p:txBody>
      </p:sp>
      <p:sp>
        <p:nvSpPr>
          <p:cNvPr id="98" name="PlaceHolder 2"/>
          <p:cNvSpPr>
            <a:spLocks noGrp="1"/>
          </p:cNvSpPr>
          <p:nvPr>
            <p:ph/>
          </p:nvPr>
        </p:nvSpPr>
        <p:spPr>
          <a:xfrm>
            <a:off x="539640" y="1483920"/>
            <a:ext cx="8229600" cy="198108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Vectors of length 800</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10 “Audio Only,” 10 “Video Only,” 10 “Audio + Video”</a:t>
            </a:r>
            <a:endParaRPr b="0" lang="en-US" sz="24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Scaled to [0,1] interva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9" name="" descr=""/>
          <p:cNvPicPr/>
          <p:nvPr/>
        </p:nvPicPr>
        <p:blipFill>
          <a:blip r:embed="rId2"/>
          <a:srcRect l="6250" t="20833" r="6250" b="29167"/>
          <a:stretch/>
        </p:blipFill>
        <p:spPr>
          <a:xfrm>
            <a:off x="539640" y="3573360"/>
            <a:ext cx="7993080" cy="265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The Functional Objects</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198144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150 order 6 B-splines, using FDA software in Matlab.</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Then smoothed.</a:t>
            </a:r>
            <a:endParaRPr b="0" lang="en-US" sz="2800" spc="-1" strike="noStrike">
              <a:solidFill>
                <a:srgbClr val="ffffff"/>
              </a:solidFill>
              <a:latin typeface="Tahoma"/>
            </a:endParaRPr>
          </a:p>
        </p:txBody>
      </p:sp>
      <p:pic>
        <p:nvPicPr>
          <p:cNvPr id="102" name="" descr=""/>
          <p:cNvPicPr/>
          <p:nvPr/>
        </p:nvPicPr>
        <p:blipFill>
          <a:blip r:embed="rId2"/>
          <a:srcRect l="6250" t="20833" r="6250" b="29167"/>
          <a:stretch/>
        </p:blipFill>
        <p:spPr>
          <a:xfrm>
            <a:off x="468360" y="3645000"/>
            <a:ext cx="7848720" cy="283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Functional Principal Components Analysis</a:t>
            </a:r>
            <a:endParaRPr b="0" lang="en-US" sz="4000" spc="-1" strike="noStrike">
              <a:solidFill>
                <a:srgbClr val="e5ffff"/>
              </a:solidFill>
              <a:latin typeface="Tahoma"/>
            </a:endParaRPr>
          </a:p>
        </p:txBody>
      </p:sp>
      <p:sp>
        <p:nvSpPr>
          <p:cNvPr id="104" name="PlaceHolder 2"/>
          <p:cNvSpPr>
            <a:spLocks noGrp="1"/>
          </p:cNvSpPr>
          <p:nvPr>
            <p:ph/>
          </p:nvPr>
        </p:nvSpPr>
        <p:spPr>
          <a:xfrm>
            <a:off x="468360" y="1052640"/>
            <a:ext cx="8229600" cy="217944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5 s – 65 s: crucial separa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 of amplification / attenuation:  how strong are the </a:t>
            </a:r>
            <a:r>
              <a:rPr b="1" i="1" lang="en-US" sz="2800" spc="-1" strike="noStrike">
                <a:solidFill>
                  <a:srgbClr val="ffffff"/>
                </a:solidFill>
                <a:latin typeface="Tahoma"/>
              </a:rPr>
              <a:t>changes</a:t>
            </a:r>
            <a:r>
              <a:rPr b="0" lang="en-US" sz="2800" spc="-1" strike="noStrike">
                <a:solidFill>
                  <a:srgbClr val="ffffff"/>
                </a:solidFill>
                <a:latin typeface="Tahoma"/>
              </a:rPr>
              <a:t> of emo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5" name="" descr=""/>
          <p:cNvPicPr/>
          <p:nvPr/>
        </p:nvPicPr>
        <p:blipFill>
          <a:blip r:embed="rId2"/>
          <a:srcRect l="6250" t="0" r="6250" b="3333"/>
          <a:stretch/>
        </p:blipFill>
        <p:spPr>
          <a:xfrm>
            <a:off x="1258920" y="3141720"/>
            <a:ext cx="6696000" cy="352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0" y="836640"/>
            <a:ext cx="9144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otion(t) = </a:t>
            </a:r>
            <a:r>
              <a:rPr b="0" lang="en-US" sz="2400" spc="-1" strike="noStrike">
                <a:solidFill>
                  <a:srgbClr val="ffffff"/>
                </a:solidFill>
                <a:latin typeface="Arial"/>
                <a:ea typeface="Arial"/>
              </a:rPr>
              <a:t>µ(t) + </a:t>
            </a:r>
            <a:r>
              <a:rPr b="0" lang="el-GR" sz="2400" spc="-1" strike="noStrike">
                <a:solidFill>
                  <a:srgbClr val="ffffff"/>
                </a:solidFill>
                <a:latin typeface="Arial"/>
                <a:ea typeface="Arial"/>
              </a:rPr>
              <a:t>β</a:t>
            </a:r>
            <a:r>
              <a:rPr b="0" lang="en-US" sz="2400" spc="-1" strike="noStrike" baseline="-25000">
                <a:solidFill>
                  <a:srgbClr val="ffffff"/>
                </a:solidFill>
                <a:latin typeface="Arial"/>
                <a:ea typeface="Arial"/>
              </a:rPr>
              <a:t>0</a:t>
            </a:r>
            <a:r>
              <a:rPr b="0" lang="en-US" sz="2400" spc="-1" strike="noStrike">
                <a:solidFill>
                  <a:srgbClr val="ffffff"/>
                </a:solidFill>
                <a:latin typeface="Arial"/>
                <a:ea typeface="Arial"/>
              </a:rPr>
              <a:t>(t){AudRemoved} + </a:t>
            </a:r>
            <a:r>
              <a:rPr b="0" lang="el-GR" sz="2400" spc="-1" strike="noStrike">
                <a:solidFill>
                  <a:srgbClr val="ffffff"/>
                </a:solidFill>
                <a:latin typeface="Arial"/>
              </a:rPr>
              <a:t>β</a:t>
            </a:r>
            <a:r>
              <a:rPr b="0" lang="en-US" sz="2400" spc="-1" strike="noStrike" baseline="-25000">
                <a:solidFill>
                  <a:srgbClr val="ffffff"/>
                </a:solidFill>
                <a:latin typeface="Arial"/>
              </a:rPr>
              <a:t>1</a:t>
            </a:r>
            <a:r>
              <a:rPr b="0" lang="en-US" sz="2400" spc="-1" strike="noStrike">
                <a:solidFill>
                  <a:srgbClr val="ffffff"/>
                </a:solidFill>
                <a:latin typeface="Arial"/>
              </a:rPr>
              <a:t>(t){VidRemoved} + </a:t>
            </a:r>
            <a:r>
              <a:rPr b="0" lang="el-GR" sz="2400" spc="-1" strike="noStrike">
                <a:solidFill>
                  <a:srgbClr val="ffffff"/>
                </a:solidFill>
                <a:latin typeface="Arial"/>
                <a:ea typeface="Arial"/>
              </a:rPr>
              <a:t>ε</a:t>
            </a:r>
            <a:r>
              <a:rPr b="0" lang="en-US" sz="2400" spc="-1" strike="noStrike">
                <a:solidFill>
                  <a:srgbClr val="ffffff"/>
                </a:solidFill>
                <a:latin typeface="Arial"/>
                <a:ea typeface="Arial"/>
              </a:rPr>
              <a:t>(t)</a:t>
            </a:r>
            <a:endParaRPr b="0" lang="en-US" sz="2400" spc="-1" strike="noStrike">
              <a:solidFill>
                <a:srgbClr val="ffffff"/>
              </a:solidFill>
              <a:latin typeface="Arial"/>
            </a:endParaRPr>
          </a:p>
        </p:txBody>
      </p:sp>
      <p:sp>
        <p:nvSpPr>
          <p:cNvPr id="107" name=""/>
          <p:cNvSpPr/>
          <p:nvPr/>
        </p:nvSpPr>
        <p:spPr>
          <a:xfrm>
            <a:off x="2484360" y="115920"/>
            <a:ext cx="532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ctional Linear Model</a:t>
            </a:r>
            <a:endParaRPr b="0" lang="en-US" sz="3200" spc="-1" strike="noStrike">
              <a:solidFill>
                <a:srgbClr val="ffffff"/>
              </a:solidFill>
              <a:latin typeface="Arial"/>
            </a:endParaRPr>
          </a:p>
        </p:txBody>
      </p:sp>
      <p:pic>
        <p:nvPicPr>
          <p:cNvPr id="108" name="" descr=""/>
          <p:cNvPicPr/>
          <p:nvPr/>
        </p:nvPicPr>
        <p:blipFill>
          <a:blip r:embed="rId2"/>
          <a:srcRect l="6250" t="0" r="6250" b="4167"/>
          <a:stretch/>
        </p:blipFill>
        <p:spPr>
          <a:xfrm>
            <a:off x="1500120" y="1371600"/>
            <a:ext cx="640080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unctional Linear Model</a:t>
            </a:r>
            <a:endParaRPr b="0" lang="en-US" sz="4400" spc="-1" strike="noStrike">
              <a:solidFill>
                <a:srgbClr val="e5ffff"/>
              </a:solidFill>
              <a:latin typeface="Tahoma"/>
            </a:endParaRPr>
          </a:p>
        </p:txBody>
      </p:sp>
      <p:pic>
        <p:nvPicPr>
          <p:cNvPr id="110" name="" descr=""/>
          <p:cNvPicPr/>
          <p:nvPr/>
        </p:nvPicPr>
        <p:blipFill>
          <a:blip r:embed="rId2"/>
          <a:srcRect l="6250" t="0" r="6250" b="4167"/>
          <a:stretch/>
        </p:blipFill>
        <p:spPr>
          <a:xfrm>
            <a:off x="1116000" y="1639800"/>
            <a:ext cx="6840720" cy="5218200"/>
          </a:xfrm>
          <a:prstGeom prst="rect">
            <a:avLst/>
          </a:prstGeom>
          <a:ln w="0">
            <a:noFill/>
          </a:ln>
        </p:spPr>
      </p:pic>
      <p:sp>
        <p:nvSpPr>
          <p:cNvPr id="111" name=""/>
          <p:cNvSpPr/>
          <p:nvPr/>
        </p:nvSpPr>
        <p:spPr>
          <a:xfrm>
            <a:off x="0" y="1052640"/>
            <a:ext cx="9144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otion(t) = </a:t>
            </a:r>
            <a:r>
              <a:rPr b="0" lang="en-US" sz="2400" spc="-1" strike="noStrike">
                <a:solidFill>
                  <a:srgbClr val="ffffff"/>
                </a:solidFill>
                <a:latin typeface="Arial"/>
                <a:ea typeface="Arial"/>
              </a:rPr>
              <a:t>µ(t) + </a:t>
            </a:r>
            <a:r>
              <a:rPr b="0" lang="el-GR" sz="2400" spc="-1" strike="noStrike">
                <a:solidFill>
                  <a:srgbClr val="ffffff"/>
                </a:solidFill>
                <a:latin typeface="Arial"/>
                <a:ea typeface="Arial"/>
              </a:rPr>
              <a:t>β</a:t>
            </a:r>
            <a:r>
              <a:rPr b="0" lang="en-US" sz="2400" spc="-1" strike="noStrike" baseline="-25000">
                <a:solidFill>
                  <a:srgbClr val="ffffff"/>
                </a:solidFill>
                <a:latin typeface="Arial"/>
                <a:ea typeface="Arial"/>
              </a:rPr>
              <a:t>0</a:t>
            </a:r>
            <a:r>
              <a:rPr b="0" lang="en-US" sz="2400" spc="-1" strike="noStrike">
                <a:solidFill>
                  <a:srgbClr val="ffffff"/>
                </a:solidFill>
                <a:latin typeface="Arial"/>
                <a:ea typeface="Arial"/>
              </a:rPr>
              <a:t>(t){AudRemoved} + </a:t>
            </a:r>
            <a:r>
              <a:rPr b="0" lang="el-GR" sz="2400" spc="-1" strike="noStrike">
                <a:solidFill>
                  <a:srgbClr val="ffffff"/>
                </a:solidFill>
                <a:latin typeface="Arial"/>
              </a:rPr>
              <a:t>β</a:t>
            </a:r>
            <a:r>
              <a:rPr b="0" lang="en-US" sz="2400" spc="-1" strike="noStrike" baseline="-25000">
                <a:solidFill>
                  <a:srgbClr val="ffffff"/>
                </a:solidFill>
                <a:latin typeface="Arial"/>
              </a:rPr>
              <a:t>1</a:t>
            </a:r>
            <a:r>
              <a:rPr b="0" lang="en-US" sz="2400" spc="-1" strike="noStrike">
                <a:solidFill>
                  <a:srgbClr val="ffffff"/>
                </a:solidFill>
                <a:latin typeface="Arial"/>
              </a:rPr>
              <a:t>(t){VidRemoved} + </a:t>
            </a:r>
            <a:r>
              <a:rPr b="0" lang="el-GR" sz="2400" spc="-1" strike="noStrike">
                <a:solidFill>
                  <a:srgbClr val="ffffff"/>
                </a:solidFill>
                <a:latin typeface="Arial"/>
                <a:ea typeface="Arial"/>
              </a:rPr>
              <a:t>ε</a:t>
            </a:r>
            <a:r>
              <a:rPr b="0" lang="en-US" sz="2400" spc="-1" strike="noStrike">
                <a:solidFill>
                  <a:srgbClr val="ffffff"/>
                </a:solidFill>
                <a:latin typeface="Arial"/>
                <a:ea typeface="Arial"/>
              </a:rPr>
              <a:t>(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88640"/>
            <a:ext cx="8964720" cy="14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Derivatives describe music dynamics: </a:t>
            </a:r>
            <a:br>
              <a:rPr sz="4000"/>
            </a:br>
            <a:r>
              <a:rPr b="0" lang="en-US" sz="4000" spc="-1" strike="noStrike">
                <a:solidFill>
                  <a:srgbClr val="e5ffff"/>
                </a:solidFill>
                <a:latin typeface="Tahoma"/>
              </a:rPr>
              <a:t>Tension</a:t>
            </a:r>
            <a:endParaRPr b="0" lang="en-US" sz="4000" spc="-1" strike="noStrike">
              <a:solidFill>
                <a:srgbClr val="e5ffff"/>
              </a:solidFill>
              <a:latin typeface="Tahoma"/>
            </a:endParaRPr>
          </a:p>
        </p:txBody>
      </p:sp>
      <p:sp>
        <p:nvSpPr>
          <p:cNvPr id="113" name="PlaceHolder 2"/>
          <p:cNvSpPr>
            <a:spLocks noGrp="1"/>
          </p:cNvSpPr>
          <p:nvPr>
            <p:ph/>
          </p:nvPr>
        </p:nvSpPr>
        <p:spPr>
          <a:xfrm>
            <a:off x="178920" y="1988640"/>
            <a:ext cx="8713800" cy="475308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judgments are really measures of </a:t>
            </a:r>
            <a:r>
              <a:rPr b="1" i="1" lang="en-US" sz="3200" spc="-1" strike="noStrike">
                <a:solidFill>
                  <a:srgbClr val="ffffff"/>
                </a:solidFill>
                <a:latin typeface="Tahoma"/>
              </a:rPr>
              <a:t>musical emotion.</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a:t>
            </a:r>
            <a:r>
              <a:rPr b="1" i="1" lang="en-US" sz="3200" spc="-1" strike="noStrike">
                <a:solidFill>
                  <a:srgbClr val="ffffff"/>
                </a:solidFill>
                <a:latin typeface="Tahoma"/>
              </a:rPr>
              <a:t>Tension/Resolution’</a:t>
            </a:r>
            <a:r>
              <a:rPr b="0" lang="en-US" sz="3200" spc="-1" strike="noStrike">
                <a:solidFill>
                  <a:srgbClr val="ffffff"/>
                </a:solidFill>
                <a:latin typeface="Tahoma"/>
              </a:rPr>
              <a:t> is rate of change of emotion (velocity).</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emotion is rapidly increasing, music has strong </a:t>
            </a:r>
            <a:r>
              <a:rPr b="1" i="1" lang="en-US" sz="2800" spc="-1" strike="noStrike">
                <a:solidFill>
                  <a:srgbClr val="ffffff"/>
                </a:solidFill>
                <a:latin typeface="Tahoma"/>
              </a:rPr>
              <a:t>tension</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emotion is rapidly decreasing, music has strong </a:t>
            </a:r>
            <a:r>
              <a:rPr b="1" i="1" lang="en-US" sz="2800" spc="-1" strike="noStrike">
                <a:solidFill>
                  <a:srgbClr val="ffffff"/>
                </a:solidFill>
                <a:latin typeface="Tahoma"/>
              </a:rPr>
              <a:t>resolution</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30T15:11:06Z</dcterms:created>
  <dc:creator>nuzzo</dc:creator>
  <dc:description/>
  <dc:language>en-US</dc:language>
  <cp:lastModifiedBy>J. O. Ramsay</cp:lastModifiedBy>
  <dcterms:modified xsi:type="dcterms:W3CDTF">2004-02-23T18:27:47Z</dcterms:modified>
  <cp:revision>26</cp:revision>
  <dc:subject/>
  <dc:title>Functional Data Analysis of Continuous Judgments in Music Cogni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