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7.png" ContentType="image/pn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9.png" ContentType="image/png"/>
  <Override PartName="/ppt/media/image31.wmf" ContentType="image/x-wmf"/>
  <Override PartName="/ppt/media/image46.png" ContentType="image/png"/>
  <Override PartName="/ppt/media/image6.wmf" ContentType="image/x-wmf"/>
  <Override PartName="/ppt/media/image2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2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3.png" ContentType="image/png"/>
  <Override PartName="/ppt/media/image26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166-778D-46F2-BC1D-337C9C80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69B-2BD5-4728-B010-EC6BC21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F32-2B9F-4684-8267-0CB61D21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ACA-6577-409B-9407-FBAB495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58C2-D64D-4442-89B9-A7B8E05A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24E-5C67-4E45-9B39-A3309E58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AB33-9567-45B0-8C24-BDC335B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EF7D-FBF9-4822-AC9A-4575D022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0005-4D7E-42CE-8844-9C860A4C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E72E-5ECF-43AC-A31C-87F2A38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CFDC-62D4-4B76-A49A-F29CC3A4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A76-BA5D-4F1F-8D98-B180592C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FE17-19BA-4EC7-AEEC-B447D7FB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27D0-B1AC-437A-A5EF-7F065F3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5F99-FABA-43AA-A093-76A3BBC1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169-CFFD-4B16-9EE7-4F6C2515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45E5-B1E5-43F0-A812-1B72AF12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DB3-1230-493C-8BB6-861DD67F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D290-AD15-4CAC-894D-061F3A4D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365-0E60-414E-983E-E1B5C33D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F4A-F1A8-4BD4-9DAA-FFC25FA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D5B-5013-44BE-B89A-C14049C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45BF-5206-486B-B339-B124215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74B-A5A0-4BC7-AB21-6475119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1ED9-407D-45A6-BECC-D1D862BDD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AE93-4ACC-4E0C-9DA3-47738FB36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sych.mcgill.ca/misc/fda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Introduction to Functional Data Analysi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kay, let’s see what happ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two Matlab commands define the basis and fit th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35, 6, age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ta2fd(hgtfmat, age, hgtbas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we need to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24480" y="1752120"/>
            <a:ext cx="2362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ise in the data has a huge impact on derivative estima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ease let me smooth the dat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sets up 12 B-spline basis functions defined by equally spaced knots.  This gives us about the right amount of fitting power given the error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basis =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eate_bspline_basis([1,18], 12, 6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re velocities are much better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go negative on the right, th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724040"/>
            <a:ext cx="51055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t’s see some acceler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 curves are too unstable at the end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something bett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measure of roughne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we mean by “smooth”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that is smooth has limited curv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ature depends on the second derivative. A straight line is completely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easure the roughness of a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integrating its squared second deriv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cond derivative notation i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2979720"/>
          <a:ext cx="4038840" cy="76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979720"/>
                    <a:ext cx="40388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 curvature of accele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we want acceleration to be smooth, we measure roughness at the level of acceler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657600" y="2670120"/>
          <a:ext cx="4876920" cy="10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670120"/>
                    <a:ext cx="487692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penalized least squares criter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trike a compromise between fitting the data and keeping the fit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3855960"/>
          <a:ext cx="7543800" cy="11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855960"/>
                    <a:ext cx="7543800" cy="11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does this control roughness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oothing parameter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0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fitting the data mat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s, we place more and more emphasis on penalizing roughn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Euclid Symbol"/>
                <a:ea typeface="Euclid 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∞,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ly roughness matters, and functions having zero roughness are us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ll use three case studies to see what is meant by functional data, and to consider some important issues in the analysis of functional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 growth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 nondurable goods manufacturing i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ty years of Montreal wea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either smooth at the data fitting step, or smooth a rough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Matlab command smooths the fit to the data obtained using knots at ages.  The roughness of the fourth derivative is contro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lambda = 0.0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gtfd = smooth_fd(hgtfd, lambda, 4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ccelerations using a roughness penal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accelerations are much less variable at the extre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9414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corresponding velocities look good, to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6386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did you choose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mooth just enough to obtain tolerable roughness in the estimated curves (accelerations in this case), but not so much as to lose interesting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data-driven methods for choos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but they offer only a reasonable place to begin exploring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is is inevitably involves judg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monotonicit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growth curves should be monotoni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velocities should be non-neg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’s hard to prevent linear combinations of anything from breaking rules like monotoni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an indirect approach to constructing a monotonic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differential equation for monotonic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strictly monotonic function x(t) must satisfy a simple linear differential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666880" y="3276720"/>
          <a:ext cx="403884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3276720"/>
                    <a:ext cx="40388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49400" y="4248000"/>
            <a:ext cx="90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ason is simple: Because of strict monotonicity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derivative Dx(t) will never be 0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 w(t) is therefore simply 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(t)/Dx(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solution of the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, any strictly monotonic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be expressible in the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71600" y="3276720"/>
          <a:ext cx="678168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276720"/>
                    <a:ext cx="678168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80880" y="4572000"/>
            <a:ext cx="84582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uggests that we transform the mono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oothing problem into one of estima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hat we have learned from the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ntrol smoothness by either using a restricted number of basis functions, or by imposing a roughness penal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ghness penalty methods generally work better than simple basis expan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useful role in defining constrain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ting the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durable goods last less than two years: Food, clothing, cigarettes, alcohol, but not personal computer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ndurable goods manufacturing index is an indicator of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dex has been published monthly by the US Federal Reserve Board since 19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complements the durable goods manufacturing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uman Growth: From data to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 want to 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important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ine the overall trend in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look at the annual or seasonal behavior of the inde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how the seasonal behavior changes over the years and with specific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log nondurable goods index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vents and Tren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9 stock market cra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37 restriction of money supp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74 end of Vietnam war, OPEC oil cri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um te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ld War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rapid growth 1960-197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usually slow growth 1990 to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 term increase of 1.5% per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volution of 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the years 1948 to 19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estimate long- and medium-term trend by spline smoothing, but with knots too far apart to capture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ubtract this smooth trend to leave only seasonal tre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1486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 the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52388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ant to represent the dat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a smooth curv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x(t)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urve should have at least two smooth derivatives.  We use spline smoothing, penalizing the size of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riv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3733920"/>
          <a:ext cx="7467480" cy="10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733920"/>
                    <a:ext cx="746748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914400" y="5029200"/>
            <a:ext cx="7543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unction Pspline in S-PLUS is available by ftp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o.psych.mcgill.ca/pub/ramsay/FDAfu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838080" y="1371600"/>
          <a:ext cx="73152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371600"/>
                    <a:ext cx="7315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ree years of typical trend: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1964-196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easonal Tr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ly three peaks per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is in the fall, peaking at the beginning of Octo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ow point is mid-Dec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248520" cy="50641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on-seasonal trend is in r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47920" y="1596960"/>
            <a:ext cx="6324480" cy="5002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asonal trend = data – nonseasonal tren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ing at seasonal trend itself does not reveal as much as looking at the interplay betwee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Veloc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first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kinetic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Acceler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r its second derivative, reflecting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potential energ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hase-plane diagra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ots acceleration against velocity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purely sinusoidal trend, the plot would be an ellip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repeated and regular access to subjects for up to 20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changes over the day, and must be measured at a fixed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ight is measured in supine position in infancy, followed by standing height.  The change involves an adjustment of about 1 c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 error is about 0.5 cm in later years, but is rather larger in infan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ments are not taken at equally spaced points in tim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sition of a swinging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pendul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505320" y="1371600"/>
          <a:ext cx="6629400" cy="508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371600"/>
                    <a:ext cx="6629400" cy="50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hase-plane plot for 196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three large loops separated by two small loops or cusp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pring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id-January into Apr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Summer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y through Aug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Fall cy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October through Dec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look at the years 1929-1931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29 through 193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ock market crash shows up as a large negative surge in velo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sequent years nearly lose the fall production cycle, as people tighten their belts and spend less at Christm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in 1937-1938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hallenges to functional modeling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smooth curves that fit the data as well as is reason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want to look at velocity and acceleration, so we want to differentiate twice and still be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rinciple the curves should be monotone; i. e., have a positive deriva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1937 and 1938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sury Board, fearing that the economy was becoming overheated again, clamped down on the money supply.  The effect was catastrophic, and nearly wiped out the fall cycl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new crash was even more dramatic than that of 1929, but was forgotten because of the outbreak of World War I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World War II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ing World War II, the seasonal cycle became very small, since the war, and the production that fed it, lasted all year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look at three pivotal years, 1974 to 1976, when the Vietnam War ended and the OPEC oil crisis happened.  Watch the shrinking of the fall cy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today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monotonicity probl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ibia of a newborn measured daily shows us that over the short term growth takes places in spur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baby’s tibia grows as fast as 2 mm/day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we fit a smooth monotone function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068560"/>
            <a:ext cx="403848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e 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the last ten years the size of all three cycles have become much sma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variation now smoothed out by information technolog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the aging baby boomers spending les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ersonal computers, video games, and other electronic goods really dura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 manufacturing now moved off sh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parate long- and medium-term trends from seasonal trends by smoo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reat ways to inspect seasona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rivatives were used in two ways: to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penalize roughn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and to reflect the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manufactu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ends in Seasona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ee by inspection that seasonal trends change systematically over time, and can also change abrup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irst estimate the principal components of seasonal variation, using a version of principal components analysis adapted to functional data, and sensitive only to effects periodic over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543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84872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92468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Compon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ative sizes of spring and summer cycles (5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size of spring and summer cycles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ze of fall cycle (11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lotting Component Sc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compute scores at each year for these three principal components, sometimes called empirical orthogonal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evolution of these scores over the 51 years shows some interesting structural changes in the economics of everyday li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eighted sums of basis functio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a flexible method for constructing curves to fit the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begin with a set of basic functional building blocks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alled </a:t>
            </a:r>
            <a:r>
              <a:rPr b="0" lang="en-US" sz="2400" spc="-1" strike="noStrike">
                <a:solidFill>
                  <a:srgbClr val="00ccff"/>
                </a:solidFill>
                <a:latin typeface="Tahoma"/>
              </a:rPr>
              <a:t>basis functi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r fitting function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weighted sum of these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71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3355920"/>
          <a:ext cx="4038480" cy="13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3355920"/>
                    <a:ext cx="4038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5341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rap-up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-plane plots are good for inspecting seasonal quasi-harmonic tr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ipal components analysis reveals main components of variation in seasonal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component scores shows how trend has evolv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as joint with work with James B. Ramsey, Dept. of Economics, New York University, and is reported i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msay, J. O. and Ramsey, J. B. (2001) Functional data analysis of the dynamics of the monthly index of non‑durable goods production.  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ournal of Econ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107, 327‑34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hase and Amplitude Variation in Montreal Weath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4 years of daily temperatures, 1961-1994 inclu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lues are averages of daily maximum and minim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410 observations in tenths of a degree Cels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ailable for Montreal and 34 other Canadian weather 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07732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know that there are two kinds of variation in these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plitud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day-to-day and year-to-year variation in temperature at events such as the depth of win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hase vari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the timing of these events -- the seasons arrive early in some years, and late i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e phase variation from amplitude variation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giste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eries to its strictly periodic im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imate components of variation due to amplitude and phas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ration process requires that we smooth the data two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n unconstrained smooth that removes the day-to-day variation, but leaves longer-term variation un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ictly periodic smooth that eliminates all but strictly periodic tr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constrained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w data are represented by a B-spline expansion using 500 basis functions of order 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t about every 25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bout this smooth, adjusted for degrees of freedom, is 1.52 degrees Celsi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-splines for growth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er 4 splines look smooth, but their second derivatives are rou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use order 6 B-splines because we want to differentiate the result at least twic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place a knot at each of the 31 ag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otal number of basis functions = order + number of interior knots.  35 in this c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odic smoo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s is Fourier, with 9 basis functions judged to be enough to capture most of the strictly periodic trend for a period of one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about data about this smooth is 2.18 deg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re this to 2.07 deg C. for the unconstrained smoot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04920" y="193680"/>
            <a:ext cx="861048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000"/>
            <a:ext cx="81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e unconstrained B-spline smooth minus the constrained Fourier smooth reveals some striking discrepanc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focus on Christmas, 1989.  The Ramsay’s spent the holidays in a chalet in the Townships, and awoke to –37 deg C.  No skiing, car dead, marooned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emperature would still be cold in mid-January, but less unus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853416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gistr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unconstrained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he strictly periodic smooth b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to estimate a nonlinear strictly increasing smooth transformation of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lled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arping 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uch that a fitting criterion is minimized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criter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1676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tting criterion was the smallest eigenvalue of the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219320" y="2800440"/>
          <a:ext cx="6476760" cy="16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800440"/>
                    <a:ext cx="6476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2193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03480" y="4359240"/>
            <a:ext cx="649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495680"/>
            <a:ext cx="63244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criterion measures the extent to which a plot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[h(t)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linear, and thus whether the two curves are in ph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warping func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mooth strictly monoton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uch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(0) =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be represented 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295280" y="3124080"/>
          <a:ext cx="4640400" cy="141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124080"/>
                    <a:ext cx="4640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5334120"/>
            <a:ext cx="7391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449568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represent unconstrained functio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(v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a B-spline expansion.  Consta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determined by constrai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(T) = T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eformation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u(t)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=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h(t) - 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this allows us to see when the seasons come early (negative deformation) or late (positive deforma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53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-winter for 1989-1990 arrived about 25 days ear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xt step is to register the temperature data by compu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= x[h(t)].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gistered curv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*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ains only amplitude vari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was done by Matlab function registerfd, available by ftp f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go.psych.mcgill.ca/pub/ramsay/FDAfu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sn’t using 35 basis functions to fit 31 observations a proble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.  We will fit each observation exa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ignore the fact that the measurement error is typically about 0.5 c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we’ll fix this up later, when we look at roughness pena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mplitude vari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unconstrained smooth and the strictly periodic smooth is 2.15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difference between the registered smooth and the period smooth is 1.73 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1.7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/2.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.35, the proportion of the variation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ndard deviation of the raw data around the registered smooth is 2.13 C, compared with 2.07 C for the unregistered smoo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0% of the total variation is due to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is an important part of weather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ians seldom think about phase variation, and classical time series methods ignore it complet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ase variation needs more attention, and registration is an essential t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Unique Aspects of Functional Data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ata are smooth, so we can use derivatives in various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can play a big ro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s in functional data occur over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itself may be an elastic medium, and vary over functional observ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ing out Mo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 (1997, 2004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msay, J. O. and Silverman, B. 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2002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pplied Functional Data Analys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Spri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t the FDA website: 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psych.mcgill.ca/misc/fda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ftware in Matlab, R and S-PLUS available at ego.psych.mcgill.ca/pub/ram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2:49:23Z</dcterms:created>
  <dc:creator>J. O. Ramsay</dc:creator>
  <dc:description/>
  <dc:language>en-US</dc:language>
  <cp:lastModifiedBy>Jim Ramsay</cp:lastModifiedBy>
  <dcterms:modified xsi:type="dcterms:W3CDTF">2005-08-09T14:44:35Z</dcterms:modified>
  <cp:revision>16</cp:revision>
  <dc:subject/>
  <dc:title>Human Growt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