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B0A-8F75-43AD-B53C-C6DC5C6D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403-7756-49E3-877D-44A9F201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EF01-C723-483E-8FC8-13685531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1E7-4AEB-4F53-A342-F0466871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E8FE-058C-49D3-A3A9-E620D9BE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2331-9C02-4124-953C-1D38403E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0168-1863-4932-9928-BB0C07D7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BAFA-7AB3-42B6-8AF0-8E0E6CB5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861A-20FB-49DA-8353-512A2139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2710-7A36-4EFD-B1A0-15E07BF4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33FB-D8ED-4E5D-B818-56E36FC6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818-2C6A-4604-9E23-909C4A0C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25AF-C7A0-4D20-B22C-40BB2932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A257-AFF5-4FA3-A07C-F949C91D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CAC7-440F-4B37-ACD4-A9985695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4B25-4F36-453B-A900-769010E9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A514-4A1B-492F-BB7C-69B29517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74A-5E2A-44CA-98F5-00EF63A2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25A-FF6D-462F-8D9E-FEA7E607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5DC-2D7E-4205-BD20-6BBAC50B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C1F-1031-4BD0-8A9F-F016648D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F5C-3EE2-4283-9C8A-25765A04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1B2-4B7F-4770-A3F8-CF77EF50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5A0-8D95-46F7-9B03-21356ABE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6CED-4A3D-4701-8EC6-391DEEBAD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30E3-A60C-4A71-A5E8-C48D4CA97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sychometrics, Dynamics, and  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814320" y="2698920"/>
            <a:ext cx="184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view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3504960"/>
            <a:ext cx="7010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ergy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E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brain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input function of time, such as educ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onstants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&gt; 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80960" y="1539720"/>
          <a:ext cx="5923080" cy="254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80960" y="1539720"/>
                    <a:ext cx="5923080" cy="25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600200" y="35053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differential equations don’t have explicit solutions, but this one d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 brainergy at tim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which will often b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19320" y="2666880"/>
          <a:ext cx="635472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666880"/>
                    <a:ext cx="635472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762120" y="4419720"/>
            <a:ext cx="763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see what happens whe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=1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aries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step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38224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1523880" y="5562720"/>
          <a:ext cx="6354720" cy="108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562720"/>
                    <a:ext cx="6354720" cy="10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lop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oes positive i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rols how fast the system responds to 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system is a problem solver, the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indicates how quickly the person learns to solve a probl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about 4/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ime units, full capacity is reached, and the system is ready for more in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tting Differential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noisy discrete-time data, and want to use them to estimate a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a solu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equation to fit the data as well as possi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need lots of flexibility in choosing a differential equation, and we can’t assume that there is an explicit solution to the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unctional Data Analy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methods for analyzing curves or functions as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on theme is using derivatives in various 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 Ramsay and Silverman (1997)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Ramsay and Silverman (2002) Applied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unctional Data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Sprin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wo Functional Data Analysis Techniqu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-spline Smooth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noisy data and a differential equation, find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will smooth the data and at the same time be nearly a solution to the differential equatio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incipal Differential Analys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given a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stimate a linear differential equation for which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sol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timating a DIFE from noisy dat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’ve recently combined these two methods into a technique for estimating a differential equation from noisy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ur simple example, this amounts to estimating parameter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much more complex DIFE’s can be estimated as well, including linear or nonlinear, and single or multiple variabl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 Oil Refine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some data from an oil refinery in Corpus Chri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reflux flow) is negatively coupled to the out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tray 47 level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mooth curve is a solution to the differential equation that best represents this relationshi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045120" cy="502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12440" y="5467320"/>
            <a:ext cx="69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haps this oil refinery is not too sma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ng as Input/Output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est score is actually a derivative with respect to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equently a differential equation model for testing data seems natur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testing data will be more and more import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have some new tools for working with dynamic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let’s consider how to use time as a covaria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situations will call for multiple outputs: Performance with a putter, a driver, and an iron, for example.  Or in algebra and geomet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many situations will involve multiple inputs: Regular classes, tutoring sessions, labs and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echnology used in these illustrations can handle these situations, at least for linear differential equations.  Nonlinear equations don’t pose any problem in princip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Simulated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agine that the data are golf scores over successive games, and that the input is a set of three equally-spaced lessons from a golf pro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llowing slides show three golfers.  Which is a future Tiger Woods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78760" y="594360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lessons are nicely ti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47920" y="304920"/>
            <a:ext cx="632448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47920" y="5943600"/>
            <a:ext cx="749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needs to find another spor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6324840" cy="5283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92280" y="5695920"/>
            <a:ext cx="73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erson should get lessons more oft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s this Model Good Enough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ying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be constant is too simple.  Allowing for fatigue, boredom, and other things requires a function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irst order equation can’t allow for sudden transient effects like insight.  We may need a differential equation involving higher deriva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eed nonlinear equations as w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 Nonlinear Differential Equa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9080" y="1600200"/>
          <a:ext cx="6840360" cy="243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9080" y="1600200"/>
                    <a:ext cx="68403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593640" y="3994200"/>
            <a:ext cx="7940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mmed output from these two equations will exhibit both the rapid learning and long-term retention  required of human learn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 H. R. Wilson (1999)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pikes, Decisions and Actions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xford, for many more examples of differential equation models in neurosci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rol Theory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eers who work with input/output systems have developed ways of designing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feedback loo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optimize output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re working with a team of chemical engineers at Queen’s Univers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Where Would the Data Come From?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design customized learning situations, like golf, and track how a learner makes progress as a function of time and inpu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haps video and computer games are nearly what we ne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lready know that people will pay big money to have these experien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corporations with deep pockets pay for this kind of testing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testing would generate performance data over time that depend on one or more functional covari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tools are available for these data that fit them with a differential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Dynamic psychometric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looks promising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arning to Play Gol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buy some clubs. We play a few games, each being an 18 item test. It’s harder than it loo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take a lesson.  We play a few games.  Our score improves to a better lev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take another lesson, play some games, and things improve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y question: How quickly is a lesson reflected in an improvement in sco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er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ergy is defined as “the capacity to do work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netic energy E = Mv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/2, and involves mass, distance,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are interested in “the capacity to solve problems.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involve difficulties (=mass), number of problems (=distance) and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call mental energ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rainer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counts is problem solving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= energy expend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= maximum difficulty of problem solvable per unit time, 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mber of lighter problems solved per unit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i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rain power = d brainergy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ain Power and Time Scal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need the concept of brain power when we consider intelligence on two time sca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Long ter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How much knowledge is available over large time intervals, like a school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Short ter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How much new knowledge can be acquired over a short time interval, like a single cl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sts Measure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tal tests and psychological scales are one of the greatest technological achievements of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s work so well because they are time-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cores reflect brain power rather than brai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puts to Brain Pow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about the structure of the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t of tools to solve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in the use of these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hese require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s to acquisition of brain power are functions of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Differential Equation in Ti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ks one or more time-derivatives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/dt, d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/dt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, to the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model for system dynamics: change over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also include one or more input or covariate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long-term descrip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/d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short-term descrip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3:21:53Z</dcterms:created>
  <dc:creator>J. O. Ramsay</dc:creator>
  <dc:description/>
  <dc:language>en-US</dc:language>
  <cp:lastModifiedBy>ramsay</cp:lastModifiedBy>
  <dcterms:modified xsi:type="dcterms:W3CDTF">2003-10-17T06:02:12Z</dcterms:modified>
  <cp:revision>18</cp:revision>
  <dc:subject/>
  <dc:title>Psychometrics, Dynamics, and  Functional Data Analysis</dc:title>
</cp:coreProperties>
</file>