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CDB-2788-4285-9516-29690B74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93D1-D9F6-4CAC-B6F3-8BC03BF4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FA8-D1CF-4FA8-B853-A4BE7768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FE0-FDAF-4EDE-81D8-42317B90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B8B7-0574-4C6A-A80D-8C4A9086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64D8-923A-4C21-A4A1-EF2137B8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ACFE-A0C7-42CE-B1E1-B87F4E74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D9F2-88A1-44A3-8B92-E65AC886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CC0F-C5B8-4542-86DB-02D0A02B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ECD4-9F86-499B-8391-77268118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1FD0-8014-4EEE-B02C-6DED2AF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440-1ABF-4DE0-BE3E-746503AD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EF2A-7048-4C66-BF51-E7121BBB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73EE-4DBA-4B1B-AB19-73D8B3E6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02E4-F3E9-4FF3-9A50-7DFD4D70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BB47-5F9D-498E-8146-0CE0D015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33C4-FBD2-42D1-8BD2-DFEFB559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024-E24B-4E19-9B08-118E329E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9B8-1F61-4751-8BF7-867D1A13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084-F2F6-46F8-AC64-4B27CB98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341-C2C9-48F5-86C8-2B07CDAC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73F-B243-4B8D-A9AF-D4CBA9D7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F50-D4C0-4142-98C8-7FC2CE33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067-7412-4C85-B460-EFA70E38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9AC1-EF4F-4C2C-BAE3-CBBBC34141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B740-2AFA-43B2-B992-992DFB687E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698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 and Amplitude Variation in Montreal Weath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193680"/>
            <a:ext cx="861048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5000"/>
            <a:ext cx="81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unconstrained B-spline smooth minus the constrained Fourier smooth reveals some striking discrepan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Christmas, 1989.  The Ramsay’s spent the holidays in a chalet in the Townships, and awoke to –37 deg C.  No skiing, car dead, maroon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emperature would still be cold in mid-January, but less unus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ist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unconstrained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strictly periodic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estimate a nonlinear strictly increasing smooth transformation of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lled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uch that a fitting criterion is minimiz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criter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676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tting criterion was the smallest eigenvalue of the matr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19320" y="2800440"/>
          <a:ext cx="6476760" cy="16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00440"/>
                    <a:ext cx="6476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219320" y="4648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3480" y="43592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495680"/>
            <a:ext cx="63244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riterion measures the extent to which a plot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[h(t)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inear, and thus whether the two curves are in ph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warping func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mooth strictly monoton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ch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0) =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be represented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95280" y="3124080"/>
          <a:ext cx="4640400" cy="14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124080"/>
                    <a:ext cx="4640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838080" y="5334120"/>
            <a:ext cx="739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4956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present unconstrained func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(v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 B-spline expansion. 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etermined by constrai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(T) = 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eforma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d(t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=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 - 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is allows us to see when the seasons come early (negative deformation) or late (positive deforma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1532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winter for 1989-1990 arrived about 25 days ea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step is to register the temperature data by compu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= x[h(t)]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ered curv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s only amplitud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was done by Matlab function registerfd, available by ftp f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go.psych.mcgill.ca/pub/ramsay/FDAfu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4 years of daily temperatures, 1961-1994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 are averages of daily maximum and minim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410 observations in tenths of a degree Cels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for Montreal and 34 other Canadian weather 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unconstrained smooth and the strictly periodic smooth is 2.15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registered smooth and the periodic smooth is 1.73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.7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/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.35, the proportion of the variation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round the registered smooth is 2.13 C, compared with 2.07 C for the unregistered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10% of the total variation is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is an important part of weather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ians seldom think about phase variation, and classical time series methods ignore it complet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needs more attention, and registration is an essential t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0773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know that there are two kinds of variation in thes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mplitud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day-to-day and year-to-year variation in temperature at events such as the depth of wi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the timing of these events -- the seasons arrive early in some years, and late in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 phase variation from amplitude variation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gister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eries to its strictly periodic im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 components of variation due to amplitude and phas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ration process requires that we smooth the data two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n unconstrained smooth that removes the day-to-day variation, but leaves longer-term variation un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strictly periodic smooth that eliminates all but strictly periodic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constrained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w data are represented by a B-spline expansion using 500 basis functions of order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t about every 25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bout this smooth, adjusted for degrees of freedom, is 4.30 degrees Celsi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odic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s is Fourier, with 9 basis functions judged to be enough to capture most of the strictly periodic trend for a period of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about data about this smooth is 4.74 deg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this to 4.30 deg C. for the unconstrained smooth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4:15:37Z</dcterms:created>
  <dc:creator>James Owen Ramsay</dc:creator>
  <dc:description/>
  <dc:language>en-US</dc:language>
  <cp:lastModifiedBy>ramsay</cp:lastModifiedBy>
  <dcterms:modified xsi:type="dcterms:W3CDTF">2004-06-07T14:00:33Z</dcterms:modified>
  <cp:revision>13</cp:revision>
  <dc:subject/>
  <dc:title>Phase and Amplitude Variation in Montreal Weather</dc:title>
</cp:coreProperties>
</file>