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F5F-7D2B-4AA2-B644-1BBE65C3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1A3-8BAD-4695-B3B5-8CE37AEC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BD8-D309-4E9C-96D4-54613D6A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525-747F-4668-8066-E3CF3695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5916-1746-4F0B-8395-EB44549F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DAF0-F56C-435E-B9A0-970C810A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5E4A-665C-44B8-8CA8-F808DC62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29EC-57F8-4917-8C59-766252B5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9435-370B-47B4-817A-C6E253BB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2860-2B5B-44C4-92F1-E0CAAA24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2656-37D9-4F40-BD5D-72FF0885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A85-4BEC-4238-B71A-44044565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C63D-5FF3-4AE3-B4F0-529AC307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B1E3-DAAA-4668-A7DE-D23A73C8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A2FB-325E-4CEF-A842-4A981F8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106C-E285-4661-A4DA-0E6D6533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76F8-3E59-4153-A6C4-C737590C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DB1-6758-4E6A-ACDB-EE1D5FBB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A5B-6CD3-4EAC-AFB4-3D244E6C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4CB8-43A3-41B1-9626-E8F5FA20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9F6-6C57-4E3A-8497-648A5509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B98-C92C-440D-A39E-9A6CBE01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92B-773F-454F-BA7E-1DA3A61A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C80-E4A7-4BC0-8407-04943FD5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FAF2-D0F5-40FA-A4EB-5433E9718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D31E-7FD9-43D3-8166-B91A041CA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ychometrics, Dynamics, and  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im Ramsay and Regina Nuzz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814320" y="2698920"/>
            <a:ext cx="184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view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 rot="10800000">
            <a:off x="820800" y="4129560"/>
            <a:ext cx="74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iews expressed here are the author’s and do not always reflect the generally accepted views of many practitioners in the field of Psychometrics.” PH, last w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unts is problem solving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= energy expend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maximum difficulty of problem solvable per unit time, 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lighter problems solv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i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 = d brainergy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s Measure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tal tests and psychological scales are one of the greatest technological achievements of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s work so well because they are time-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cores reflect brain power rather than brai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puts to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about the structure of the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tools to solv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in the use of these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se requir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s to acquisition of brain power are functions of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Differential Equation in Ti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s one or more time-derivative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/dt, d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/dt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 to th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model for system dynamics: change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include one or more input or covariate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350496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ergy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input function of time, such as edu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are constants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&gt;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80960" y="1539720"/>
          <a:ext cx="5923080" cy="25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0960" y="1539720"/>
                    <a:ext cx="592308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600200" y="35053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differential equations don’t have explicit solutions, but this one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 brainergy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which will often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19320" y="2666880"/>
          <a:ext cx="635472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666880"/>
                    <a:ext cx="635472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62120" y="441972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see what happens whe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=1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aries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step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523880" y="5562720"/>
          <a:ext cx="6354720" cy="108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562720"/>
                    <a:ext cx="635472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slop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he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goes positive i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controls how fast the system responds to 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f(t)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f the system is a problem solver, t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 indicates how quickly the person learns to solve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fter about 4/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ime units, full capacity is reached, and the system is ready for more in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Differenti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noisy discrete-time data, and want to use them to estimate a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a sol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equation to fit the data as well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lots of flexibility in choosing a differential equation, and we can’t assume that there is an explicit solution to the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methods for analyzing curves or functions as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on theme is using derivatives in various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Ramsay and Silverman (1997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Ramsay and Silverman (2002) Appli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ank you ETS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Psychometric Fellowship in 196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a great sabbatical year in 198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any sets of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so many great frie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your hospitality to Canada’s ge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wo Functional Data Analysis Techniqu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-spline Smooth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noisy data and a differential equation, find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will smooth the data and at the same time be nearly a solution to the differential equa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al Differential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timate a linear differential equation for whic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begin with a standard spline smoothing spline to get a preliminary estimat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rom the noisy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we do a principal differential analysis to get a trial estimate of the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redefines how we smooth the data, so we use L-spline smoothing to re-estima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s steps 2 and 3 until convergenc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Oil Refin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data from an oil refinery in Corpus Chri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reflux flow) is negatively coupled to the out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tray 47 leve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mooth curve is a solution to the differential equation that best represents this relation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045120" cy="502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12440" y="5467320"/>
            <a:ext cx="69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haps this oil refinery is not too sma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situations will call for multiple outputs: Performance with a putter, a driver, and an iron, for example.  Or in algebra and geome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any situations will involve multiple inputs: Regular classes, tutoring sessions, labs and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chnology used in these illustrations can handle these situations, at least for linear differential equations.  Nonlinear equations don’t pose any problem in princi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Simulated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agine that the data are golf scores over successive games, and that the input is a set of three equally-spaced lessons from a golf pr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llowing slides show three golfers.  Which is a future Tiger Wood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78760" y="594360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lessons are nicely ti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47920" y="5943600"/>
            <a:ext cx="74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needs to find another spo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6324840" cy="5283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92280" y="5695920"/>
            <a:ext cx="73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should get lessons more oft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is Model Good Enough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y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to be constant is too simple.  Allowing for fatigue, boredom, and other things requires a functio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  <a:ea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 first order equation can’t allow for sudden transient effects like insight.  We may need a differential equation involving higher deriva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We may need nonlinear equations a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 Learned at E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s adds only about 2% to the quality of a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istics adds only about 2% to the quality of nearly anyth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ing your way around these buildings is hard … see “brainergy” l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Nonlinear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89080" y="1600200"/>
          <a:ext cx="684036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9080" y="1600200"/>
                    <a:ext cx="6840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93640" y="3994200"/>
            <a:ext cx="794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mmed output from these two equations will exhibit both the rapid learning and long-term retention  required of human lear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H. R. Wilson (1999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pikes, Decisions and Actions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xford, for many more examples of differential equation models in neuro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ol Theo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ers who work with input/output systems have developed ways of designing feedback loops to optimize outpu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working with a team of chemical engineers at Queen’s Univer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with ETS would be fun, too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here Would the Data Come From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design customized learning situations, like golf, and track how a learner makes progress as a function of time and inpu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haps video and computer games are nearly what we n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ready know that people will pay big money to have these experi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corporations with deep pockets pay for this kind of testing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testing would generate performance data over time that depend on one or more functional covari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tools are available to work with thes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kind of psychometrics looks prom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I Didn’t Learn at Prince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love the latent tra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use covari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go beyond snapshot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use time as a covari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My Problems with the Latent Trai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re widely interpreted as covaria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tation that we use, like P(x=1|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Tahoma"/>
              </a:rPr>
              <a:t>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), is usually misinterpre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tent trait is not an unobserved covariate … it is not observable, peri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tent trait is not even a variable in the usual sense, since it can be transformed by any strictly increasing smooth function without loss of mean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82680" y="704880"/>
            <a:ext cx="6578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tent trait says that high dimensional data can be represented in a low dimensional space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, that the probabilities of getting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ems correct fall along a space cur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Rossi, Wang &amp; Ramsay (2002) JEBS for some applications of differential geometry to this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ng as Input/Output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est score is actually a derivative with respect to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 a differential equation model for testing data seems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testing data will be more and more impor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some new tools for working with dynamic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let’s consider how to use time as a cov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er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is defined as “the capacity to do work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etic energy E = 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2, and involves mass, distance,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interested in “the capacity to solve problem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involve difficulties (=mass), number of problems (=distance)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call mental energ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rain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3:21:53Z</dcterms:created>
  <dc:creator>J. O. Ramsay</dc:creator>
  <dc:description/>
  <dc:language>en-US</dc:language>
  <cp:lastModifiedBy>J. O. Ramsay</cp:lastModifiedBy>
  <dcterms:modified xsi:type="dcterms:W3CDTF">2003-02-17T20:28:47Z</dcterms:modified>
  <cp:revision>10</cp:revision>
  <dc:subject/>
  <dc:title>Psychometrics, Dynamics, and  Functional Data Analysis</dc:title>
</cp:coreProperties>
</file>