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25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F01-5680-4583-8145-86B065C8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494B-682D-4FBB-998E-8E317450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1E83-C4CF-4D45-8928-6A74B429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3CDA-A561-4F4A-8D9D-E87FE613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97A0-1013-442C-AE61-F7DEE6B8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7BF7-F2E6-48A2-AB12-B6E5FE60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D11D-3751-4E77-A87B-AD3EFD19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8780-E3E8-4A7D-BEBD-4D077306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6C91-4204-4900-8F74-023538E0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78A4-15D7-4BCD-9E14-7AE980FA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304F-4624-490A-8384-50BE1217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F4B6-D812-425D-A55A-A9266E60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5DB2-0EAA-477F-874E-3B88F09C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362D-BAA7-468D-9224-44CF239B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159E-169B-4A9B-80E7-21EC8D55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A659-8DD0-4AC8-B2D7-FB1B6611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B50A-E732-47B4-A4D7-E2219A4A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3442-51C9-4EF7-832F-7B552510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6899-B5A0-4293-B60E-86885B9F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5EEA-274C-429E-BB8B-0F06A1AF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FFA-0997-4421-8BF4-EA15A09D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425-3566-465E-A387-85F79619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D37-7DA4-4D1F-A547-27002A26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0C6A-F54A-4A3A-85AA-195594BF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F392-977B-4625-85ED-0DAD473CD9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3653-5E03-4E66-A250-34D02B30C8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-Plane Plotting the Nondurable Goods Index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248520" cy="5064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on-seasonal tre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6705360" cy="5303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asonal tre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-Plane Plo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ing at seasonal trend itself does not reveal as much as looking at the interplay betwee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Veloci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 its first derivative, reflecting </a:t>
            </a: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kinetic energ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 the syst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Acceler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 its second derivative, reflecting </a:t>
            </a: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potential energ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phase-plane diagra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lots acceleration against velocity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purely sinusoidal trend, the plot would be an ellips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sition of a swinging pendul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-plane plot for pendul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32448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505320" y="1371600"/>
          <a:ext cx="6629400" cy="508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1371600"/>
                    <a:ext cx="6629400" cy="50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-plane plot for 196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 three large loops separated by two small loops or cusp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Spring cyc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id-January into Apr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Summer cyc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ay through Augu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Fall cyc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October through Decem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look at the years 1929-1931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0769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durable goods last less than two years: Food, clothing, cigarettes, alcohol, but not personal computers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ondurable goods manufacturing index is an indicator of the economics of everyday li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dex has been published monthly by the US Federal Reserve Board since 1919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complements the durable goods manufacturing inde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929 through 193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ock market crash shows up as a large negative surge in veloc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sequent years nearly lose the fall production cycle, as people tighten their belts and spend less at Christ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happened in 1937-1938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937 and 1938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reasury Board, fearing that the economy was becoming overheated again, clamped down on the money supply.  The effect was catastrophic, and nearly wiped out the fall cycl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new crash was even more dramatic than that of 1929, but was forgotten because of the outbreak of World War I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bout World War II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ring World War II, the seasonal cycle became very small, since the war, and the production that fed it, lasted all year lo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look at three pivotal years, 1974 to 1976, when the Vietnam War ended and the OPEC oil crisis happened.  Watch the shrinking of the fall cyc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we want to d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k at important ev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ine the overall trend in the inde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a look at the annual or seasonal behavior of the inde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how the seasonal behavior changes over the years and with specific ev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bout today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se day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 the last ten years the size of all three cycles have become much small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variation now smoothed out by information technolog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the aging baby boomers spending les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personal computers, video games, and other electronic goods really durabl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manufacturing now moved off sho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separate long- and medium-term trends from seasonal trends by smooth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se-plane plots are great ways to inspect seasona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rivatives were used in two ways: to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penalize roughn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nd to reflect the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dynamic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manufactur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ends in Seasonal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ee by inspection that seasonal trends change systematically over time, and can also change abrupt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first estimate the principal components of seasonal variation, using a version of principal components analysis adapted to functional data, and sensitive only to effects periodic over one y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54380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784872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92468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log nondurable goods index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Compon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ative sizes of spring and summer cycles (53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int size of spring and summer cycles (25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ze of fall cycle (11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lotting Component Sc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compute scores at each year for these three principal components, sometimes called empirical orthogonal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ting the evolution of these scores over the 51 years shows some interesting structural changes in the economics of everyday li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4582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rap-up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se-plane plots are good for inspecting seasonal quasi-harmonic tre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ncipal components analysis reveals main components of variation in seasonal tr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ting component scores shows how trend has evolv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was joint with work with James B. Ramsey, Dept. of Economics, New York University, and is reported i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msay, J. O. and Ramsey, J. B. (2001) Functional data analysis of the dynamics of the monthly index of non‑durable goods production.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Journal of Econometric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107, 327‑34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vents and Trend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rt ter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29 stock market cra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37 restriction of money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74 end of Vietnam war, OPEC oil cri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um ter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pre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ld War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usually rapid growth 1960-197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usually slow growth 1990 to pres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ng term increase of 1.5% per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evolution of seasonal tre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focus on the years 1948 to 199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estimate long- and medium-term trend by spline smoothing, but with knots too far apart to capture seasonal tr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ubtract this smooth trend to leave only seasonal tr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1486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moothing the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523880"/>
            <a:ext cx="7238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ant to represent the dat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y a smooth curv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x(t)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urve should have at least two smooth derivatives.  We use spline smoothing, penalizing the size of the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rivat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914400" y="3733920"/>
          <a:ext cx="7467480" cy="107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3733920"/>
                    <a:ext cx="746748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914400" y="5029200"/>
            <a:ext cx="7543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unction Pspline in S-PLUS is available by ftp f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o.psych.mcgill.ca/pub/ramsay/FDAfu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838080" y="1371600"/>
          <a:ext cx="731520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371600"/>
                    <a:ext cx="73152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ree years of typical trend: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1964-196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asonal Tre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cally three peaks per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rgest is in the fall, peaking at the beginning of Octo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ow point is mid-Dece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13:37:38Z</dcterms:created>
  <dc:creator>James Ramsay</dc:creator>
  <dc:description/>
  <dc:language>en-US</dc:language>
  <cp:lastModifiedBy>ramsay</cp:lastModifiedBy>
  <dcterms:modified xsi:type="dcterms:W3CDTF">2003-06-30T18:45:34Z</dcterms:modified>
  <cp:revision>21</cp:revision>
  <dc:subject/>
  <dc:title>PowerPoint Presentation</dc:title>
</cp:coreProperties>
</file>