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1.png" ContentType="image/png"/>
  <Override PartName="/ppt/media/image31.png" ContentType="image/png"/>
  <Override PartName="/ppt/media/image25.wmf" ContentType="image/x-wmf"/>
  <Override PartName="/ppt/media/image26.wmf" ContentType="image/x-wmf"/>
  <Override PartName="/ppt/media/image3.wmf" ContentType="image/x-wmf"/>
  <Override PartName="/ppt/media/image4.wmf" ContentType="image/x-wmf"/>
  <Override PartName="/ppt/media/image36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5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7.wmf" ContentType="image/x-wmf"/>
  <Override PartName="/ppt/media/image32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41.png" ContentType="image/png"/>
  <Override PartName="/ppt/media/image9.wmf" ContentType="image/x-wmf"/>
  <Override PartName="/ppt/media/image40.png" ContentType="image/png"/>
  <Override PartName="/ppt/media/image8.wmf" ContentType="image/x-wmf"/>
  <Override PartName="/ppt/media/image11.png" ContentType="image/png"/>
  <Override PartName="/ppt/media/image48.png" ContentType="image/png"/>
  <Override PartName="/ppt/media/image12.wmf" ContentType="image/x-wmf"/>
  <Override PartName="/ppt/media/image27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F166-2816-4090-93AF-690B910E3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8B08-7C92-4D0D-BB55-0ED266FE8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6418-577F-4F7A-9C9F-48BE18309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958E-623F-4E30-A1D6-FCBDE194B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BBB8-6FDB-4A65-B75F-4A337C160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3410-0C44-4304-BBBB-D737C724F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BB8D-2555-4489-941B-6EFD9A56C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B64D-6DD9-4D97-99E9-3B9CD3BD3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B6F4-A82F-4FBA-9AB0-659750A1C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8F35-E4F4-4A3B-BC8A-819D94336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8CE2-67B0-4E83-8F7E-E8B724543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F80F-8D53-49C0-8258-FB691A613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3FF1-94E2-4940-90EB-565D24E18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E75F-E326-4F5A-B107-471D2A98A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A4E0-C993-45E5-8A94-C75480483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D92A-D089-416E-B5DD-C86FB43B8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8031-EEA7-4BA8-8CE2-652CD5356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7A3F-AEB8-4EB0-B41E-7C6849C21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3350-B2A3-46B5-B3A3-697F03397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D9D3-DCDE-4F0C-85E3-09849AA79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BBF0-10B6-459F-8976-63C5C0341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22D4-3D1A-418D-A454-304075411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6578-FBC5-4609-BFB7-09A518448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26D5-18F0-4F45-AFC8-727BFA490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1071-31A4-4590-82C8-327D66CB9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8141-65EF-4F56-A126-11F0A1320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D5BB-027B-4B46-8F4B-94EF08234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B889-E89F-4A14-9CC5-942ABDAD2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B3AE-1E30-433E-A4D1-5F77227A8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DA3B-A845-422F-A3C1-CBD5FBD3C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AB0C-FB7A-46CF-9D19-5F89C46E6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2F7B-72BE-4DDE-A5A5-62DB584EC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784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90680" y="37699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080" y="37699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4920" y="146160"/>
            <a:ext cx="861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784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784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90680" y="37699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76080" y="3769920"/>
            <a:ext cx="274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146160"/>
            <a:ext cx="8610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7840" y="376992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5341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76320"/>
            <a:ext cx="9144000" cy="609480"/>
          </a:xfrm>
          <a:prstGeom prst="rect">
            <a:avLst/>
          </a:prstGeom>
          <a:solidFill>
            <a:srgbClr val="c3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24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00800"/>
            <a:ext cx="3043080" cy="457200"/>
          </a:xfrm>
          <a:prstGeom prst="rect">
            <a:avLst/>
          </a:prstGeom>
          <a:solidFill>
            <a:srgbClr val="b5c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560" y="6400800"/>
            <a:ext cx="3043440" cy="457200"/>
          </a:xfrm>
          <a:prstGeom prst="rect">
            <a:avLst/>
          </a:prstGeom>
          <a:solidFill>
            <a:srgbClr val="c3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00920" y="6400800"/>
            <a:ext cx="3043080" cy="457200"/>
          </a:xfrm>
          <a:prstGeom prst="rect">
            <a:avLst/>
          </a:prstGeom>
          <a:solidFill>
            <a:srgbClr val="dae7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28600" y="6400800"/>
            <a:ext cx="1371600" cy="4222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88620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nivers 47 Condensed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5880" y="6384960"/>
            <a:ext cx="2895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33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1999 –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Insightful Corporation,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3043080" cy="1143000"/>
          </a:xfrm>
          <a:prstGeom prst="rect">
            <a:avLst/>
          </a:prstGeom>
          <a:solidFill>
            <a:srgbClr val="b5c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560" y="0"/>
            <a:ext cx="3043440" cy="1143000"/>
          </a:xfrm>
          <a:prstGeom prst="rect">
            <a:avLst/>
          </a:prstGeom>
          <a:solidFill>
            <a:srgbClr val="c3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00920" y="0"/>
            <a:ext cx="3043080" cy="1143000"/>
          </a:xfrm>
          <a:prstGeom prst="rect">
            <a:avLst/>
          </a:prstGeom>
          <a:solidFill>
            <a:srgbClr val="dae7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3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76320"/>
          </a:xfrm>
          <a:prstGeom prst="rect">
            <a:avLst/>
          </a:prstGeom>
          <a:solidFill>
            <a:srgbClr val="247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257800"/>
            <a:ext cx="3035160" cy="114300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5257800"/>
            <a:ext cx="3043080" cy="114300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00920" y="5257800"/>
            <a:ext cx="3043080" cy="1143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6553080"/>
            <a:ext cx="876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Copyright </a:t>
            </a:r>
            <a:r>
              <a:rPr b="1" lang="en-US" sz="1000" spc="-1" strike="noStrike">
                <a:solidFill>
                  <a:srgbClr val="0033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1999 – 2005 Insightful Corporation,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95480" y="1739880"/>
            <a:ext cx="3505320" cy="1079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1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46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40.png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47.png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48.png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3523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+FDA: Tools for Functional Data Analysi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44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Jim Ramsay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cGill University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ugust,  2005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-45720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572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we see in heigh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eight curves are pretty smooth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ut we can see the increase in slope during the pubertal growth spurt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f we look closely, we can see that timing of the pubertal growth varies a lot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residuals are about what we expect for growth measurements, and we have the right balance between smoothness and data fit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838080" y="-304920"/>
          <a:ext cx="7696440" cy="588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-304920"/>
                    <a:ext cx="7696440" cy="58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447920" y="54100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HgtFd &lt;- fVector(fHgtFd, linDop=fDop(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(fDHgtF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we see in velocity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w the peak in velocity during the pubertal growth spurt is clearly visible in each curv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 is its variation in timing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nd now we see something happening before the pubertal growth spurt for most curves.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t looks like a small preliminary growth spurt, called the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mid spurt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609480" y="-285840"/>
          <a:ext cx="7848720" cy="588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-285840"/>
                    <a:ext cx="7848720" cy="58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754280" y="5257800"/>
            <a:ext cx="624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2HgtFd &lt;- fVector(fHgtFd, linDop=fDop(2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(fD2HgtF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we see in acceleration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center of the pubertal growth spurt is indicated by where the acceleration curve crosses zero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se centers range from 9 to 14 years of ag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acceleration curves are a bit unstable at 18 years, where they should go to zero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et’s look at the mean acceleration over the pubertal growth spurt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0" y="-38088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808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went wrong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mean curve in red is a terrible summary of the actual curves!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t has less amplitude than any single curv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nd lasts longer as well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curves show two types of variation: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mplitude var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variation in the magnitudes of the peaks and vall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ase var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variation in ages or timings of peaks and vall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registration challeng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ke most familiar data summaries, the mean is designed to summarize only amplitude variation.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ach curve should be doing the “same thing” at each point in time in order for the mean to work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n we find a way to transform time so that the pubertal growth spurts all take place at the same “biological age?”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phase-plane plo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 far we have looked at how height, velocity and acceleration vary over ag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ut how do they vary with respect to each other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et’s plot acceleration against velocity, for exampl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PLUS 7 software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unctional data analysi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functional data look li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functional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look at heights of growing girls: a sample of functional dat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w do I put discrete data into functional form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nondurable goods data: a single long multi-layered functional observat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terature and Software Referenc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-45720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572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do we see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ach curve begins in the lower right, where velocity is high and acceleration is strongly negative.  This is early childhood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n the passes through a loop, and continues moving the the upper left, where velocity and acceleration become near zero at adulthood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curves are remarkably coherent once in the loop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ergy transf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r moving bodies, there are two kinds of energy: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inet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high velocity, where energy can be transferred to another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tenti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igh acceleration, where energy is being absorbed from an external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f we plot the acceleration of a pendulum or spring against its velocity, we see an ellipse.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nergy is being transferred back and forth between these two state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781200"/>
            <a:ext cx="7391160" cy="55432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sition of a swinging pendulum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a pendulum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38080" y="781200"/>
            <a:ext cx="73915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does the loop mean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pubertal growth spurt is a time where growth energy is being transferred between these two states, before it disappears altogether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se loops are remarkably coherent, and phase variation has all but disappeared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w we have a direct view of the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dynamic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of growth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dynamics of growth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phase-plane plots displays one of the relationships holding among the derivatives of height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quations involving derivatives are called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differential equation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quations of this nature model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chang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 or the dynamics of a system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unctional data analysis can involve dynamical models.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1600200"/>
            <a:ext cx="86868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ow do we estimate these height functions from noisy height data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structing function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need a method for constructing functions that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fit any curve, no matter how com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gives us infinite control over smoot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lso assures smoothness in one or more deriv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use functional building blocks called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asis function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 basis function expansion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use K functional building blocks 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</a:t>
            </a:r>
            <a:r>
              <a:rPr b="1" i="1" lang="en-US" sz="2400" spc="-1" strike="noStrike" baseline="-25000">
                <a:solidFill>
                  <a:srgbClr val="003366"/>
                </a:solidFill>
                <a:latin typeface="Arial"/>
              </a:rPr>
              <a:t>k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(t)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se are combined linearly to construct the function x(t) that we need: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4470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ew in 2005 from Insightfu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S-PLUS 7 Platform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-PLUS 7 - Desktop, Server, Insightful-Miner,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fe Sciences Application Modul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+ArrayAnalyzer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-PLUS Clinical Pack for SAS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-PLUS Clinical Reporting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sightful Safety M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nancial Services Application Modul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+Finmetrics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uOpt 1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search Librari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unctional Data Analysis (S+F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yesian modeling (S+Bay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-spline basis function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-spline basis functions are usually used where the data are not periodic or stationary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interval is divided into sub-intervals by values called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reak-point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knot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tween break-points the curve is a polynomial of specified degree. (order = degree + 1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cross break-points all but the highest non-trivial derivatives are continuou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basis for the height data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70840" cy="31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want smooth acceleration curves (2</a:t>
            </a:r>
            <a:r>
              <a:rPr b="1" lang="en-US" sz="24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derivative)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use polynomials of degree 5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reak-points are at each time of observation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5080" y="3048120"/>
            <a:ext cx="656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gtBasis = bsplineBasis(fDomain=c(1,18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asis=35, norder=6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s=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-304920"/>
          <a:ext cx="8915400" cy="57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04920"/>
                    <a:ext cx="891540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203480" y="5904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74880" y="4876920"/>
            <a:ext cx="70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(heightBasis, cex=cexval, lty=1, lwd=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lab="Age (cm)", ylab="Basis function value"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="B-spline Basis Functions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oughness penaltie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order to control smoothness, we define a measure of roughnes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ince we want smooth acceleration curves, we ask that the curvature of acceleration be controlled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total curvature of acceleration i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828800" y="3809880"/>
            <a:ext cx="53341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final step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w we put the fitting criterion, in this case error sum of squares, together with the roughness penalty to get a composite criter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5004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ow it work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moothing parameter 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controls the trade-off between fitting the data and having a smooth function </a:t>
            </a:r>
            <a:r>
              <a:rPr b="1" i="1" lang="en-US" sz="2400" spc="-1" strike="noStrike">
                <a:solidFill>
                  <a:srgbClr val="003366"/>
                </a:solidFill>
                <a:latin typeface="Arial Unicode MS"/>
              </a:rPr>
              <a:t>x(t).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The smaller 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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the more closely </a:t>
            </a:r>
            <a:r>
              <a:rPr b="1" i="1" lang="en-US" sz="2400" spc="-1" strike="noStrike">
                <a:solidFill>
                  <a:srgbClr val="003366"/>
                </a:solidFill>
                <a:latin typeface="Arial Unicode MS"/>
              </a:rPr>
              <a:t>x(t) 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fits the data, but the rougher it will b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The larger 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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the smoother </a:t>
            </a:r>
            <a:r>
              <a:rPr b="1" i="1" lang="en-US" sz="2400" spc="-1" strike="noStrike">
                <a:solidFill>
                  <a:srgbClr val="003366"/>
                </a:solidFill>
                <a:latin typeface="Arial Unicode MS"/>
              </a:rPr>
              <a:t>x(t) 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</a:rPr>
              <a:t>will be, and it will ultimately be forced to fit the data with a polynomial of degree 3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S-PLUS FDA cod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HgtPenalty &lt;- list(lambda=0.05,       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inDop=fDop(4))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HgtFd &lt;- fVector(heightBasis, fHgt,  age,             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enalty=fHgtPenalty 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hat about a single long functional observation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Nondurable Goods Index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38080" y="781200"/>
            <a:ext cx="73915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ndurable goods last less than two years: Food, clothing, cigarettes, alcohol, but not personal computers!!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nondurable goods manufacturing index is an indicator of the economics of everyday lif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index has been published monthly by the US Federal Reserve Board since 1919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t complements the durable goods manufacturing index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76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ndurable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-PLUS 7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Enterprise development environment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PLUS Workbench - Eclipse IDE, interfaces with source-code control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ipeline architecture for scalable performance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, manipulate and analyze gigabyte-class datasets on commodity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tistical techniques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ed effects for non-normal data, mixed effects surviv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aphical analysis e.g. Trellis on large dat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ntegrate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Open architecture, APIs and server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 advanced statistical methods, where and how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-PLUS 7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only statistical software offering both rapid prototyping and analysis of large data sets integrated across the enterpris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we want to do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ook at important event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amine the overall trend in the index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ave a look at the annual or seasonal behavior of the index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nderstand how the seasonal behavior changes over the years and with specific event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log nondurable goods index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vents and Trend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hort term: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9 stock market cr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37 restriction of money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4 end of Vietnam war, OPEC oil cr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dium term: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 War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usually rapid growth 1960-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usually slow growth 1990 to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ong term increase of 1.5% per yea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evolution of seasonal trend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focus on the years 1948 to 1999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estimate long- and medium-term trend by spline smoothing, but with knots too far apart to capture seasonal trend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subtract this smooth trend to leave only seasonal trend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685800" y="762120"/>
          <a:ext cx="7696080" cy="55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7696080" cy="55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1536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ree years of typical trend: 1964-1966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asonal Trend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ypically three peaks per yea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largest is in the fall, peaking at the beginning of Octobe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low point is mid-Decembe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43000" y="766800"/>
            <a:ext cx="6858000" cy="55576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n-seasonal trend is in red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66680" y="789120"/>
            <a:ext cx="6934320" cy="54846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asonal trend = data – nonseasonal trend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2895480" y="914400"/>
          <a:ext cx="7086600" cy="54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914400"/>
                    <a:ext cx="7086600" cy="54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64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149760" y="1143000"/>
            <a:ext cx="4187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re are three large loops separated by two small loops or cusps: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076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pring 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id-January into Ap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mmer 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y through 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all 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October through Dec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 look at the years 1929-1931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60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et’s take a look at some functional data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555480" y="708120"/>
          <a:ext cx="7826400" cy="57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708120"/>
                    <a:ext cx="782640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228600" y="76320"/>
            <a:ext cx="8610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380880" y="722160"/>
          <a:ext cx="8153640" cy="57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22160"/>
                    <a:ext cx="815364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228600" y="76320"/>
            <a:ext cx="8610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33520" y="642960"/>
          <a:ext cx="7696080" cy="58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42960"/>
                    <a:ext cx="7696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228600" y="76320"/>
            <a:ext cx="8610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929 through 1931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stock market crash shows up as a large negative surge in velocity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ubsequent years nearly lose the fall production cycle, as people tighten their belts and spend less at Christma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76320" y="762120"/>
          <a:ext cx="8534160" cy="54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62120"/>
                    <a:ext cx="8534160" cy="54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2940120" y="7632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uring World War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09120" y="9903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uring World War II, the seasonal cycle became very small, since the war, and the production that fed it, lasted all year long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ow look at three pivotal years, 1974 to 1976, when the Vietnam War ended and the OPEC oil crisis happened.  Watch the shrinking of the fall cycl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40120" y="7632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uring World War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57200" y="609480"/>
          <a:ext cx="7772400" cy="582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77240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228600" y="76320"/>
            <a:ext cx="8610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609480" y="685800"/>
          <a:ext cx="7543800" cy="56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75438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228600" y="76320"/>
            <a:ext cx="8610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457200" y="704880"/>
          <a:ext cx="7772400" cy="58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04880"/>
                    <a:ext cx="777240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228600" y="76320"/>
            <a:ext cx="8610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about today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-45720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572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457200" y="704880"/>
          <a:ext cx="7696080" cy="57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04880"/>
                    <a:ext cx="76960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228600" y="76320"/>
            <a:ext cx="86104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hase-plane plot for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se day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ver the last ten years the size of all three cycles have become much smaller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hy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variation now smoothed out by information technolog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aging baby boomers spending l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ersonal computers, video games, and other electronic goods really dur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manufacturing now moved off sh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can separate long- and medium-term trends from seasonal trends by smoothing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hase-plane plots are great ways to inspect seasonality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rivatives were used in two ways: to penalize roughness, and to reflect the dynamics of manufacturing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nique Aspects of Functional Data Analysi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processes generating the data are smooth, so that we can use derivatives in various way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vents in functional data occur over different time scale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ime itself may be an elastic medium, and vary over functional observations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fferential equations can play a big rol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inding out More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arkson, D. B., Fraley, C., Gu, C. C. and Ramsay, J. O. (2005)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S+Functional Data Analysis User’s Guid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  Springer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amsay, J. O. and Silverman, B. W. (2005)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Functional Data Analysi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 Second Edition. Springer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amsay, J. O. and Silverman, B. W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2002)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pplied Functional Data Analysi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. Springe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isit the FDA website: www.functionaldata.org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-PLUS 7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Enterprise development environment.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PLUS Workbench - Eclipse IDE, interfaces with source-code control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ipeline architecture for scalable performance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, manipulate and analyze gigabyte-class datasets on commodity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tistical techniques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ed effects for non-normal data, mixed effects survival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NEW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aphical analysis e.g. Trellis on large dat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ntegrate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Open architecture, APIs and server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 advanced statistical methods, where and how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-PLUS 7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The only statistical software offering both rapid prototyping and analysis of large data sets integrated across the enterprise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rug Discovery Solutions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4800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+ArrayAnalyzer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array data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nsightful Biomarker Analysis and Pharmacogenomic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rogate endpoints, oversampled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+Gene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stical genetics, SNP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nsightful High Throughput Screening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rt screening, rigorous QC and hit de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-PLUS Server for DecisionSite 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S-PLUS from inside Spotf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rcRect l="22504" t="1250" r="22504" b="1250"/>
          <a:stretch/>
        </p:blipFill>
        <p:spPr>
          <a:xfrm>
            <a:off x="5562720" y="1143000"/>
            <a:ext cx="20066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0" name="" descr=""/>
          <p:cNvPicPr/>
          <p:nvPr/>
        </p:nvPicPr>
        <p:blipFill>
          <a:blip r:embed="rId2"/>
          <a:srcRect l="22504" t="1250" r="22504" b="1250"/>
          <a:stretch/>
        </p:blipFill>
        <p:spPr>
          <a:xfrm>
            <a:off x="6019920" y="1905120"/>
            <a:ext cx="205092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3"/>
          <a:srcRect l="23441" t="3751" r="23441" b="3751"/>
          <a:stretch/>
        </p:blipFill>
        <p:spPr>
          <a:xfrm>
            <a:off x="6516720" y="2743200"/>
            <a:ext cx="2009880" cy="262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2" name="" descr=""/>
          <p:cNvPicPr/>
          <p:nvPr/>
        </p:nvPicPr>
        <p:blipFill>
          <a:blip r:embed="rId4"/>
          <a:srcRect l="23441" t="1250" r="23441" b="1250"/>
          <a:stretch/>
        </p:blipFill>
        <p:spPr>
          <a:xfrm>
            <a:off x="7053120" y="3429000"/>
            <a:ext cx="19926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08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rug Discovery Sol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990720"/>
            <a:ext cx="480060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+ArrayAnalyz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array data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nsightful Biomarker Analysis and Pharmacogenom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rogate endpoints, oversampled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+Ge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stical genetics, SNPs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nsightful High Throughput Scree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rt screening, rigorous QC and hit de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S-PLUS Server for DecisionSit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S-PLUS from inside Spotf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22504" t="1250" r="22504" b="1250"/>
          <a:stretch/>
        </p:blipFill>
        <p:spPr>
          <a:xfrm>
            <a:off x="5562720" y="1143000"/>
            <a:ext cx="20066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6" name="" descr=""/>
          <p:cNvPicPr/>
          <p:nvPr/>
        </p:nvPicPr>
        <p:blipFill>
          <a:blip r:embed="rId2"/>
          <a:srcRect l="22504" t="1250" r="22504" b="1250"/>
          <a:stretch/>
        </p:blipFill>
        <p:spPr>
          <a:xfrm>
            <a:off x="6019920" y="1905120"/>
            <a:ext cx="2050920" cy="27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3"/>
          <a:srcRect l="23441" t="3751" r="23441" b="3751"/>
          <a:stretch/>
        </p:blipFill>
        <p:spPr>
          <a:xfrm>
            <a:off x="6516720" y="2743200"/>
            <a:ext cx="2009880" cy="262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4"/>
          <a:srcRect l="23441" t="1250" r="23441" b="1250"/>
          <a:stretch/>
        </p:blipFill>
        <p:spPr>
          <a:xfrm>
            <a:off x="7053120" y="3429000"/>
            <a:ext cx="19926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9" name=""/>
          <p:cNvSpPr/>
          <p:nvPr/>
        </p:nvSpPr>
        <p:spPr>
          <a:xfrm>
            <a:off x="3352680" y="5029200"/>
            <a:ext cx="54864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FSlogo" descr=""/>
          <p:cNvPicPr/>
          <p:nvPr/>
        </p:nvPicPr>
        <p:blipFill>
          <a:blip r:embed="rId5"/>
          <a:stretch/>
        </p:blipFill>
        <p:spPr>
          <a:xfrm>
            <a:off x="3416400" y="5132520"/>
            <a:ext cx="5357880" cy="658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928320" y="5805360"/>
            <a:ext cx="4283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Univers 57 Condensed"/>
              </a:rPr>
              <a:t>2004 Innovation A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rcRect l="22504" t="1250" r="22504" b="1250"/>
          <a:stretch/>
        </p:blipFill>
        <p:spPr>
          <a:xfrm>
            <a:off x="5437080" y="1219320"/>
            <a:ext cx="2125800" cy="282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3" name=""/>
          <p:cNvSpPr/>
          <p:nvPr/>
        </p:nvSpPr>
        <p:spPr>
          <a:xfrm>
            <a:off x="304920" y="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nical Development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990720"/>
            <a:ext cx="480060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sightful Safety M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clinical / safety data management, analysis and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-PLUS Clinical 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S-PLUS from inside SAS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-PLUS Clinical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ed graphical and tabular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+Seq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tial clinical tri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-PLUS Valid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S-PLUS for 21 CFR11/Gx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775480" y="1811160"/>
            <a:ext cx="2073240" cy="288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6110280" y="2338560"/>
            <a:ext cx="2043000" cy="27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7" name="" descr=""/>
          <p:cNvPicPr/>
          <p:nvPr/>
        </p:nvPicPr>
        <p:blipFill>
          <a:blip r:embed="rId4"/>
          <a:srcRect l="23441" t="7501" r="23441" b="1250"/>
          <a:stretch/>
        </p:blipFill>
        <p:spPr>
          <a:xfrm>
            <a:off x="6527880" y="2871720"/>
            <a:ext cx="21286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6858000" y="3535200"/>
            <a:ext cx="2028960" cy="276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3876840"/>
            <a:ext cx="4419720" cy="298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3876840"/>
            <a:ext cx="4495680" cy="298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600120"/>
            <a:ext cx="4495680" cy="313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600120"/>
            <a:ext cx="4419720" cy="313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477120" y="5369040"/>
            <a:ext cx="2057400" cy="10317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334120" y="5018040"/>
            <a:ext cx="1828800" cy="109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"/>
          <p:cNvGraphicFramePr/>
          <p:nvPr/>
        </p:nvGraphicFramePr>
        <p:xfrm>
          <a:off x="5791320" y="1757520"/>
          <a:ext cx="1876320" cy="12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757520"/>
                    <a:ext cx="187632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351080" y="4343400"/>
          <a:ext cx="1457280" cy="12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51080" y="4343400"/>
                    <a:ext cx="145728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28600" y="1219320"/>
          <a:ext cx="2438280" cy="139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1219320"/>
                    <a:ext cx="243828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7391520" y="1986120"/>
          <a:ext cx="1676160" cy="1328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1986120"/>
                    <a:ext cx="167616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3" name="" descr=""/>
          <p:cNvPicPr/>
          <p:nvPr/>
        </p:nvPicPr>
        <p:blipFill>
          <a:blip r:embed="rId11"/>
          <a:stretch/>
        </p:blipFill>
        <p:spPr>
          <a:xfrm>
            <a:off x="6248520" y="4419720"/>
            <a:ext cx="2057400" cy="11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1960560" y="4800600"/>
          <a:ext cx="1316160" cy="1114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60560" y="4800600"/>
                    <a:ext cx="131616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6" name="" descr=""/>
          <p:cNvPicPr/>
          <p:nvPr/>
        </p:nvPicPr>
        <p:blipFill>
          <a:blip r:embed="rId14"/>
          <a:stretch/>
        </p:blipFill>
        <p:spPr>
          <a:xfrm>
            <a:off x="1752480" y="2209680"/>
            <a:ext cx="1905120" cy="70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"/>
          <p:cNvGraphicFramePr/>
          <p:nvPr/>
        </p:nvGraphicFramePr>
        <p:xfrm>
          <a:off x="6324480" y="1071720"/>
          <a:ext cx="2438640" cy="1118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1071720"/>
                    <a:ext cx="2438640" cy="11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5943600" y="388620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mpliance and Reporting,                Value at Risk &amp; Base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4120" y="619200"/>
            <a:ext cx="35049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rtfolio Construction, Analysis, Back-testing, Optimization and Risk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39625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nterprise Reporting and Visu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428920" y="1081080"/>
          <a:ext cx="1457280" cy="1204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428920" y="1081080"/>
                    <a:ext cx="145728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12640" y="4648320"/>
          <a:ext cx="1524240" cy="1295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2640" y="4648320"/>
                    <a:ext cx="15242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1274760" y="5114880"/>
          <a:ext cx="1219320" cy="1057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274760" y="5114880"/>
                    <a:ext cx="12193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0" y="660240"/>
            <a:ext cx="2895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inancial Time Series  and Vendor Data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596880"/>
            <a:ext cx="1447920" cy="21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Capital Mar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Fu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Credit/Lo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Insu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As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320" y="2971800"/>
            <a:ext cx="3429000" cy="457200"/>
          </a:xfrm>
          <a:prstGeom prst="wedgeRectCallout">
            <a:avLst>
              <a:gd name="adj1" fmla="val -41527"/>
              <a:gd name="adj2" fmla="val -17916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ss, analyze and transform financial time series data through visual work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Generate derived data like returns or volatilit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29240" y="2933640"/>
            <a:ext cx="4190760" cy="304920"/>
          </a:xfrm>
          <a:prstGeom prst="wedgeRectCallout">
            <a:avLst>
              <a:gd name="adj1" fmla="val -16703"/>
              <a:gd name="adj2" fmla="val 5625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over new strategies &amp; products;                       Create Create optimal portfolio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loy new models and products to the enterprise; Value and manage risk on existing portfol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2280" y="6248520"/>
            <a:ext cx="4191120" cy="457200"/>
          </a:xfrm>
          <a:prstGeom prst="wedgeRectCallout">
            <a:avLst>
              <a:gd name="adj1" fmla="val -9736"/>
              <a:gd name="adj2" fmla="val 95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ch reporting &amp; graphics to share information with the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62440" y="6400800"/>
            <a:ext cx="4572000" cy="457200"/>
          </a:xfrm>
          <a:prstGeom prst="wedgeRectCallout">
            <a:avLst>
              <a:gd name="adj1" fmla="val -1143"/>
              <a:gd name="adj2" fmla="val 70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 state of the art simulations and econometrics to determine VaR and reduce capital reserve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12120" y="14400"/>
            <a:ext cx="50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-PLUS in Financial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heights of girls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9 measurements over ages 1 to 18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imes are not equally spaced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ypical errors of measurement from 7 mm in infancy to 3 mm in adolescenc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want a smooth curve estimated from each child’s discrete data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elocity and acceleration will tell us a lot about the dynamics of growth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146160"/>
            <a:ext cx="86104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hat makes these data functional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can assume that children grow smoothly, and therefore that growth can be expressed as a smooth curv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think of an entire curve as a single unitary observation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e want to understand the shape of the curve, and also its rate of change, or velocity, and perhaps its acceleration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-45720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5720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8T21:15:43Z</dcterms:created>
  <dc:creator>David Smith</dc:creator>
  <dc:description/>
  <dc:language>en-US</dc:language>
  <cp:lastModifiedBy>Jim Ramsay</cp:lastModifiedBy>
  <dcterms:modified xsi:type="dcterms:W3CDTF">2005-08-15T18:34:13Z</dcterms:modified>
  <cp:revision>131</cp:revision>
  <dc:subject/>
  <dc:title>PowerPoint Presentation</dc:title>
</cp:coreProperties>
</file>