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354AB-E803-4BA9-8385-DCBB179C4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2D88B-963E-46DB-949E-C46B9601F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EF5F8-77CF-4DFB-BC58-1C3514AB6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0393C-06DB-4AAF-9F06-1770AE9E7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31441-0791-4205-B28B-32B1AE98E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2F8BA-53DD-42B6-AB17-D1F59D31F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A44F6-CA7E-4068-BE92-3E216D21D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610EA-CDD5-4454-BE48-3BCD5068D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A9D00-CD78-4298-A5AE-40D2FEF26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0815A-5858-4C80-83B6-8F106C007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836E6-4F5D-46A0-AFD4-016ABAD94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A4E35-A69E-4871-BAAD-0BC90C8B0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EC705-9C52-4C2D-BA40-3972B223E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826C1-BD19-41E9-BC48-1FE0B6FEC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B1688-4989-480C-89B3-A1D563EED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67CC3-BAF4-4AB9-B4E5-F51CBDB6B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372C1-1E57-480F-AC94-4021B391D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51D77-4310-43C3-A02C-0610FE819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803C3-CB45-4796-89DE-2F25C6340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7836A-D195-4928-8D32-003CC5835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08059-89CA-4A0B-A5E1-FABA78C15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C1C09-9653-4F5F-8DC1-AE0C4BAA7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FDD33-DFF6-45F1-9B4F-C61E7A584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75DF3-DA70-4F53-B34B-D9B231E88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EC820-4E5F-446A-966C-190F300FC90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4F3AA-5A99-4D1F-B07E-08AF465DCF7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Functional linear model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457200" y="252396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4648320" y="252396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Predicting log annual precipitation from the temperature profiles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n we determine how much precipitation a weather station will receive from the shape of the temperature profile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roughness penalty should we use to smooth </a:t>
            </a:r>
            <a:r>
              <a:rPr b="0" i="1" lang="el-GR" sz="3200" spc="-1" strike="noStrike">
                <a:solidFill>
                  <a:srgbClr val="ffffff"/>
                </a:solidFill>
                <a:latin typeface="Tahoma"/>
              </a:rPr>
              <a:t>β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(t)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?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 penalize the size of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(2</a:t>
            </a:r>
            <a:r>
              <a:rPr b="0" i="1" lang="el-GR" sz="3200" spc="-1" strike="noStrike">
                <a:solidFill>
                  <a:srgbClr val="ffffff"/>
                </a:solidFill>
                <a:latin typeface="Tahoma"/>
              </a:rPr>
              <a:t>π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/365)</a:t>
            </a:r>
            <a:r>
              <a:rPr b="0" i="1" lang="en-US" sz="32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D</a:t>
            </a:r>
            <a:r>
              <a:rPr b="0" i="1" lang="el-GR" sz="3200" spc="-1" strike="noStrike">
                <a:solidFill>
                  <a:srgbClr val="ffffff"/>
                </a:solidFill>
                <a:latin typeface="Tahoma"/>
              </a:rPr>
              <a:t>β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+D</a:t>
            </a:r>
            <a:r>
              <a:rPr b="0" i="1" lang="en-US" sz="3200" spc="-1" strike="noStrike" baseline="30000">
                <a:solidFill>
                  <a:srgbClr val="ffffff"/>
                </a:solidFill>
                <a:latin typeface="Tahoma"/>
              </a:rPr>
              <a:t>3</a:t>
            </a:r>
            <a:r>
              <a:rPr b="0" i="1" lang="el-GR" sz="3200" spc="-1" strike="noStrike">
                <a:solidFill>
                  <a:srgbClr val="ffffff"/>
                </a:solidFill>
                <a:latin typeface="Tahoma"/>
              </a:rPr>
              <a:t>β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0" lang="en-US" sz="3200" spc="-1" strike="noStrike">
                <a:solidFill>
                  <a:srgbClr val="00ccff"/>
                </a:solidFill>
                <a:latin typeface="Tahoma"/>
              </a:rPr>
              <a:t>harmonic acceleration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of </a:t>
            </a:r>
            <a:r>
              <a:rPr b="0" i="1" lang="el-GR" sz="3200" spc="-1" strike="noStrike">
                <a:solidFill>
                  <a:srgbClr val="ffffff"/>
                </a:solidFill>
                <a:latin typeface="Tahoma"/>
              </a:rPr>
              <a:t>β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(t)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.  This smooths towards a shifted sinusoid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The smoothed regression function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nual precipitation is determined by: (1) spring temperature, and (2) by the contrast between late summer and fall temperatures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4648320" y="252396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he fit to the dat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904760"/>
            <a:ext cx="2743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fit is good.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e see  clusters of hi-precip. marine stations, and of continential stations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rctic stations have the least precip.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3276720" y="1866960"/>
            <a:ext cx="5562360" cy="41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What about both the response and covariate being functional?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sponse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y(t)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 covariate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x(s)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r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x(s,t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ere we have a lot of possibilities. We can predict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y(t)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sing the shape of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x(s,t)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over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ll of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 especially for periodic data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nly at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s = t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 concurrent influence only, or for some delay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s = t – </a:t>
            </a:r>
            <a:r>
              <a:rPr b="0" i="1" lang="el-GR" sz="3200" spc="-1" strike="noStrike">
                <a:solidFill>
                  <a:srgbClr val="ffffff"/>
                </a:solidFill>
                <a:latin typeface="Tahoma"/>
              </a:rPr>
              <a:t>δ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s </a:t>
            </a: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 t,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 feed forward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me region </a:t>
            </a:r>
            <a:r>
              <a:rPr b="0" i="1" lang="el-GR" sz="3200" spc="-1" strike="noStrike">
                <a:solidFill>
                  <a:srgbClr val="ffffff"/>
                </a:solidFill>
                <a:latin typeface="Tahoma"/>
              </a:rPr>
              <a:t>Ω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Tahoma"/>
              </a:rPr>
              <a:t>t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depending on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t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Predicting the precipitation profile from the temperature profile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7620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model i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838080" y="2743200"/>
          <a:ext cx="7696440" cy="1042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38080" y="2743200"/>
                    <a:ext cx="7696440" cy="104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" name=""/>
          <p:cNvSpPr/>
          <p:nvPr/>
        </p:nvSpPr>
        <p:spPr>
          <a:xfrm>
            <a:off x="533520" y="4343400"/>
            <a:ext cx="8001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this case we have to smooth </a:t>
            </a:r>
            <a:r>
              <a:rPr b="0" i="1" lang="el-GR" sz="3200" spc="-1" strike="noStrike">
                <a:solidFill>
                  <a:srgbClr val="ffffff"/>
                </a:solidFill>
                <a:latin typeface="Tahoma"/>
              </a:rPr>
              <a:t>β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(s,t)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with respect to both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and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t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he regression functio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1828800" y="198108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914400" y="685800"/>
            <a:ext cx="73152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914400" y="685800"/>
            <a:ext cx="73152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914400" y="685800"/>
            <a:ext cx="73152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he concurrent model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79246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s time, we’ll only use temperature at time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to predict precipitation at time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1143000" y="3352680"/>
          <a:ext cx="6553080" cy="844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43000" y="3352680"/>
                    <a:ext cx="6553080" cy="84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Three types of linear model to consider: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sponse is a function; covariates are multivariat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sponse is scalar or multivariate; covariates are functiona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oth response and covariates are functiona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he regression function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30481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influence of temperature is nearly constant over the yea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et’s see how the two fits compar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3962520" y="1905120"/>
            <a:ext cx="4952880" cy="37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914400" y="685800"/>
            <a:ext cx="73152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914400" y="685800"/>
            <a:ext cx="73152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914400" y="685800"/>
            <a:ext cx="73152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he historical linear model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en the functions are not periodic, it may not be reasonable to assume that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x(s)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can influence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y(t)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when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s &gt; t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historical linear model is described in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Applied Functional Data Analysi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 and in talk at this conference by Nicole Malfait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The concurrent model and differential equations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0773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ne important extension of the concurrent model is to the fitting of data by a differential equation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simple example i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838080" y="4191120"/>
          <a:ext cx="7543800" cy="796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38080" y="4191120"/>
                    <a:ext cx="7543800" cy="79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Functional response with multivariate covariates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73915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sponse: 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y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ahoma"/>
              </a:rPr>
              <a:t>i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(t), i=1,…,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variate: 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x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ahoma"/>
              </a:rPr>
              <a:t>i1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,…, x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ahoma"/>
              </a:rPr>
              <a:t>ip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del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1143000" y="3900600"/>
          <a:ext cx="6781680" cy="736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43000" y="3900600"/>
                    <a:ext cx="678168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How does daily temperature depend on climate zone?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5 Canadian temperature stations, divided into four zones: Atlantic, Pacific, Continental, and Arctic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sponse is 30-year average daily temperatur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functional one-way analysis of variance, set up to have a main effect, and zone effects summing to zero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Analyzing the dat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s is straightforward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f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Y(t)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is the N-vector of response functions, </a:t>
            </a:r>
            <a:r>
              <a:rPr b="0" i="1" lang="el-GR" sz="3200" spc="-1" strike="noStrike">
                <a:solidFill>
                  <a:srgbClr val="ffffff"/>
                </a:solidFill>
                <a:latin typeface="Tahoma"/>
              </a:rPr>
              <a:t>β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(t)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is the 5-vector of regression functions (main effect + zone effects), then the LS estimate i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3200" spc="-1" strike="noStrike">
                <a:solidFill>
                  <a:srgbClr val="ffffff"/>
                </a:solidFill>
                <a:latin typeface="Tahoma"/>
              </a:rPr>
              <a:t>β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(t) = (X’X)</a:t>
            </a:r>
            <a:r>
              <a:rPr b="0" i="1" lang="en-US" sz="3200" spc="-1" strike="noStrike" baseline="30000">
                <a:solidFill>
                  <a:srgbClr val="ffffff"/>
                </a:solidFill>
                <a:latin typeface="Tahoma"/>
              </a:rPr>
              <a:t>-1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X’ Y(t)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Main and zone effect function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1828800" y="198108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Assessing effect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 probably want to assess effects </a:t>
            </a:r>
            <a:r>
              <a:rPr b="0" lang="en-US" sz="3200" spc="-1" strike="noStrike">
                <a:solidFill>
                  <a:srgbClr val="00ccff"/>
                </a:solidFill>
                <a:latin typeface="Tahoma"/>
              </a:rPr>
              <a:t>pointwis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: For what times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t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is an effect substantial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s can be done using F-ratios conditional on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t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 pointwise confidence bands, etc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multiple comparison problem is especially challenging here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Response is scalar, Covariate is a single functional variable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sponse: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y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ahoma"/>
              </a:rPr>
              <a:t>i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 , i=1,…,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variate: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x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ahoma"/>
              </a:rPr>
              <a:t>i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(t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del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1219320" y="3657600"/>
          <a:ext cx="6276960" cy="1200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19320" y="3657600"/>
                    <a:ext cx="6276960" cy="120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We have to smooth!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technical and conceptual issues become much more interesting when the covariate is functiona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functional covariate is effectively an infinite-dimensional predictor for a finite set of N responses.  We can fit the data exactly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moothing becomes essential; without it, </a:t>
            </a:r>
            <a:r>
              <a:rPr b="0" i="1" lang="el-GR" sz="2800" spc="-1" strike="noStrike">
                <a:solidFill>
                  <a:srgbClr val="ffffff"/>
                </a:solidFill>
                <a:latin typeface="Tahoma"/>
              </a:rPr>
              <a:t>β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(t)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will be unacceptably rough, and we won’t learn anything useful.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6T13:06:33Z</dcterms:created>
  <dc:creator>J. O. Ramsay</dc:creator>
  <dc:description/>
  <dc:language>en-US</dc:language>
  <cp:lastModifiedBy>ramsay</cp:lastModifiedBy>
  <dcterms:modified xsi:type="dcterms:W3CDTF">2003-06-30T19:11:31Z</dcterms:modified>
  <cp:revision>6</cp:revision>
  <dc:subject/>
  <dc:title>Functional linear models</dc:title>
</cp:coreProperties>
</file>