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7F6-11E3-4C8C-B0DA-E6C8E9BE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589-75FB-4566-BDBA-C21DCD8D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0F18-B77D-4584-AB57-E37A0183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AE4-8D14-4859-A5F5-594CE47D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2341-61A8-424C-B532-243D44C7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0486-0FD4-4E78-AD64-96341A86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855D-6284-42F1-BBBA-DD2B83A5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937A-6506-4CBA-957F-A9B6EADB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6B34-EE01-4EF1-BBC0-CE08CF4D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8AEE-BE4B-4174-8F55-824DE6E4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0905-C357-4458-8CFF-80675EA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F9B-A7D6-45CF-B7DD-599B8815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E1D9-61DC-478E-9B95-FB2843A5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4599-D090-43A6-8B67-44C7B220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65BB-3E7F-4EA2-BE96-A5028B21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7AC-CE79-408A-A3E8-FB2B64B1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B482-7037-48EA-B584-3D57349D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5F7-2E77-4959-8CA6-FBB9D2F0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8CB-C9AA-4522-AC00-19E0F3DF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83D-FD14-4B57-B583-ECA5F216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3E5-5E69-4E93-9164-2AE5B04F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24A-E1AE-4EEF-A776-C2F8BE5B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E02F-E660-4D8C-ADE2-771C83D0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992-057D-4E61-B78C-0BE73BA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C7A-16DC-4827-B791-77B45022B4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DD1-9FDE-4054-99D9-D51EF2CF4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Predator-Prey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. F. Fussmann, S. P. Ellner, K. W. Shertzer and G. Hairston J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(2000) </a:t>
            </a:r>
            <a:r>
              <a:rPr b="0" i="1" lang="en-CA" sz="3200" spc="-1" strike="noStrike">
                <a:solidFill>
                  <a:srgbClr val="ffffff"/>
                </a:solidFill>
                <a:latin typeface="Tahoma"/>
              </a:rPr>
              <a:t>Science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, 290, 1358-13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Fig. 1. Population dynamics predicted by the original model (left panels) and observed in the chemostat experiments (right panels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-"/>
          <p:cNvPicPr/>
          <p:nvPr/>
        </p:nvPicPr>
        <p:blipFill>
          <a:blip r:embed="rId2"/>
          <a:stretch/>
        </p:blipFill>
        <p:spPr>
          <a:xfrm>
            <a:off x="304308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x"/>
          <p:cNvPicPr/>
          <p:nvPr/>
        </p:nvPicPr>
        <p:blipFill>
          <a:blip r:embed="rId3"/>
          <a:stretch/>
        </p:blipFill>
        <p:spPr>
          <a:xfrm>
            <a:off x="3835440" y="5428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-"/>
          <p:cNvPicPr/>
          <p:nvPr/>
        </p:nvPicPr>
        <p:blipFill>
          <a:blip r:embed="rId4"/>
          <a:stretch/>
        </p:blipFill>
        <p:spPr>
          <a:xfrm>
            <a:off x="4532400" y="542880"/>
            <a:ext cx="75960" cy="38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-"/>
          <p:cNvPicPr/>
          <p:nvPr/>
        </p:nvPicPr>
        <p:blipFill>
          <a:blip r:embed="rId5"/>
          <a:stretch/>
        </p:blipFill>
        <p:spPr>
          <a:xfrm>
            <a:off x="533700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-"/>
          <p:cNvPicPr/>
          <p:nvPr/>
        </p:nvPicPr>
        <p:blipFill>
          <a:blip r:embed="rId6"/>
          <a:stretch/>
        </p:blipFill>
        <p:spPr>
          <a:xfrm>
            <a:off x="7000920" y="542880"/>
            <a:ext cx="76320" cy="38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-"/>
          <p:cNvPicPr/>
          <p:nvPr/>
        </p:nvPicPr>
        <p:blipFill>
          <a:blip r:embed="rId7"/>
          <a:stretch/>
        </p:blipFill>
        <p:spPr>
          <a:xfrm>
            <a:off x="1192320" y="679320"/>
            <a:ext cx="75960" cy="38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delta"/>
          <p:cNvPicPr/>
          <p:nvPr/>
        </p:nvPicPr>
        <p:blipFill>
          <a:blip r:embed="rId8"/>
          <a:stretch/>
        </p:blipFill>
        <p:spPr>
          <a:xfrm>
            <a:off x="2806560" y="679320"/>
            <a:ext cx="76320" cy="104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delta"/>
          <p:cNvPicPr/>
          <p:nvPr/>
        </p:nvPicPr>
        <p:blipFill>
          <a:blip r:embed="rId9"/>
          <a:stretch/>
        </p:blipFill>
        <p:spPr>
          <a:xfrm>
            <a:off x="5427720" y="679320"/>
            <a:ext cx="76320" cy="104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delta"/>
          <p:cNvPicPr/>
          <p:nvPr/>
        </p:nvPicPr>
        <p:blipFill>
          <a:blip r:embed="rId10"/>
          <a:stretch/>
        </p:blipFill>
        <p:spPr>
          <a:xfrm>
            <a:off x="6140520" y="679320"/>
            <a:ext cx="75960" cy="1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delta"/>
          <p:cNvPicPr/>
          <p:nvPr/>
        </p:nvPicPr>
        <p:blipFill>
          <a:blip r:embed="rId11"/>
          <a:stretch/>
        </p:blipFill>
        <p:spPr>
          <a:xfrm>
            <a:off x="7418520" y="679320"/>
            <a:ext cx="75960" cy="1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1143000" y="533520"/>
            <a:ext cx="701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ould like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data to estimate dilution rat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 the fit to the data based on the differential equa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 for some unexplained residual variatio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deliver a reasonable confidence interval fo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els for the interaction of prey and predators date back to the beginning of th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 (Volterra-Lotke equa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some conditions, both predator and prey populations oscil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amous Canadian lynx data show this, for exam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xperi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ank contains a species of algae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lorella vulgar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trogen is the resource that limits algae growth, and this is controlled in the experi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edator is a planktonic rotifer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is calyciflo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at feeds on the alga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ariab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Nitrogen concentration: prey nutr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ey concentration -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lor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edator concentration - Reprodu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otal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chion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cen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44400" y="2162160"/>
          <a:ext cx="778032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4400" y="2162160"/>
                    <a:ext cx="77803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ator-Prey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64620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two F functions are thresholding functions that vary between zero and an upper asympto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3108240"/>
          <a:ext cx="601668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08240"/>
                    <a:ext cx="601668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al Consta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3.30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2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4.3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5.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2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0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0.4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odel parameter </a:t>
            </a:r>
            <a:r>
              <a:rPr b="0" i="1" lang="el-GR" sz="4000" spc="-1" strike="noStrike">
                <a:solidFill>
                  <a:srgbClr val="e5ffff"/>
                </a:solidFill>
                <a:latin typeface="Tahoma"/>
              </a:rPr>
              <a:t>δ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(dilution level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parameter controls how rapidly the tank nitrogen level responds to a change in input nitrogen, and also how rapidly the prey population responds to this chan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99072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low dilution level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, both predator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nd prey populations decay to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medium rates, the two popula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higher rates, the two  population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scill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t even higher rates, the two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populations again deca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6:47:38Z</dcterms:created>
  <dc:creator>Gregor</dc:creator>
  <dc:description/>
  <dc:language>en-US</dc:language>
  <cp:lastModifiedBy>ramsay</cp:lastModifiedBy>
  <dcterms:modified xsi:type="dcterms:W3CDTF">2004-12-09T15:11:32Z</dcterms:modified>
  <cp:revision>14</cp:revision>
  <dc:subject/>
  <dc:title>Slide 1</dc:title>
</cp:coreProperties>
</file>