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6.wmf" ContentType="image/x-wmf"/>
  <Override PartName="/ppt/media/image8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image9.wmf" ContentType="image/x-wmf"/>
  <Override PartName="/ppt/media/image34.wmf" ContentType="image/x-wmf"/>
  <Override PartName="/ppt/media/image12.wmf" ContentType="image/x-wmf"/>
  <Override PartName="/ppt/media/image4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11.wmf" ContentType="image/x-wmf"/>
  <Override PartName="/ppt/media/image3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511F-75D2-4470-9A84-8BEE569AD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99EC-4898-484D-88AD-50B27E31A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-sensitive help is provided at every stage, and all 8 pri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s are also available to be browsed and searched on-line as 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.  S-PLUS's open design makes it easy to work with your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as well: for example, you can cut-and-paste 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ght from S-PLUS into applications like Word or Excel, and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data from more than 20 different data sources, including ASCI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, SAS, Oracle, SQL Server, and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F74F-111E-47F5-9827-751FEBC8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with the ease of creating your graph with an inter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 is the security of knowing you can easily auto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 of the graphics you create for new data sets or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-- just drag and drop the graph into a Script file to creat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 to instantly re-create the graph when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720B-FDD4-41C0-931A-1363136D3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EAEE-3409-45F7-9B87-44418E72A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0257-F193-4C2B-8EA7-9639C33D7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6321-E6F0-4751-A002-0D1E89A40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1427-A154-4550-870F-A763E0ECC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B543-FB56-4B55-8C75-F6E0E187A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5DC6-7D41-40CC-AC9B-7867C2A8D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21F1-4B1A-4461-B75F-D51D17D01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AB4A-52C5-4AD6-9198-3F362F52B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ED96-B310-422E-8E03-897419240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969AC-E494-45BA-A8A0-3BC9E8A0F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A673-DFAE-4699-818B-B857B0512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Univers 57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Univers 57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F3DB-0946-4632-8A2C-DFB21E1CD224}" type="slidenum">
              <a:rPr b="1" lang="en-US" sz="1400" spc="-1" strike="noStrike">
                <a:solidFill>
                  <a:srgbClr val="000000"/>
                </a:solidFill>
                <a:latin typeface="Univers 57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4008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Insightful Corporation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3532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1752480"/>
            <a:ext cx="7696080" cy="0"/>
          </a:xfrm>
          <a:prstGeom prst="line">
            <a:avLst/>
          </a:prstGeom>
          <a:ln w="936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faculty.washington.edu/ezivot" TargetMode="External"/><Relationship Id="rId3" Type="http://schemas.openxmlformats.org/officeDocument/2006/relationships/hyperlink" Target="http://faculty.washington.edu/ezivot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insightful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S+FinMetrics™ 2.0: Advancing the State of the Art in Modeling Financial Time Serie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c Z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Professor of Economic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 Professor of Fin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Waterman Distinguished Sch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73D1-4655-4A61-B274-F71F2B281B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C99A-231D-4E64-9E2C-63480FD500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ting Bivariate Copulas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to Daily Returns on BMW and Sieme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62CC-2717-4B7A-B8EE-129D6E0CBC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ginal pdfs </a:t>
            </a:r>
            <a:r>
              <a:rPr b="1" i="1" lang="en-US" sz="3600" spc="-1" strike="noStrike">
                <a:solidFill>
                  <a:srgbClr val="808080"/>
                </a:solidFill>
                <a:latin typeface="Arial"/>
              </a:rPr>
              <a:t>are not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Normal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51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253F-EE3F-45C3-A8FC-38F08D8650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Joint pdf </a:t>
            </a:r>
            <a:r>
              <a:rPr b="1" i="1" lang="en-US" sz="3200" spc="-1" strike="noStrike">
                <a:solidFill>
                  <a:srgbClr val="808080"/>
                </a:solidFill>
                <a:latin typeface="Arial"/>
              </a:rPr>
              <a:t>is not</a:t>
            </a: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 Multivariate Normal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54380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8600" y="1828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≈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DD0D-3EF9-44B4-A534-F25DA5A26C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Dependence Modeling with Copula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ultivariate pdfs with uniformly distributed mar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pu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a simple way to create general multivariate pd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pecify Marginal pdf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Pick Copula to Capture Dependence Structur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Sklar’s Theorem to Couple Margins with Copula to Create Multivariate pdf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FinMetrics/EVANESCE has 18 parametric bivariate cop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7445-F732-4617-A1DB-08ECB3A27E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Semi-Parametric Generalized Pareto Distribution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D4ED-3927-4D9E-AC53-50D287F39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Bivariate pdf with Independent GPD Margin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C900-29E3-4A18-9254-6236A29C2B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0773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253B-4FAA-4A93-9BFE-8A2CEAAA88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Normal Copula with </a:t>
            </a:r>
            <a:r>
              <a:rPr b="1" lang="en-US" sz="3600" spc="-1" strike="noStrike">
                <a:solidFill>
                  <a:srgbClr val="808080"/>
                </a:solidFill>
                <a:latin typeface="Symbol"/>
                <a:ea typeface="Symbol"/>
              </a:rPr>
              <a:t>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= 0.7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7129-7A97-4642-AD8E-D3C3FD3DC7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Independent, Normal, Gumbel and Clayton Copula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DDAC-65B5-48EC-BE1B-76E57F336A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D1A1-26EB-4BA0-81C8-F8CC7A76F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Fit Normal Copula by Two-Step Maximum Likelihood Method (IFM)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057400"/>
            <a:ext cx="79250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 =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fit.copul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empcop.b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                  family = "normal", plot =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cop.normal.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t Bivariate Copula by MLE 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-likelihood value:  15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mal copula fam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=  0.6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ameter Estimates, Standard Errors and t-rati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 Std.Error  t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ta   0.6567   0.0065  101.05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5864-4A13-4FDD-B53E-11AC0778FE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LE vs. Empirical Copul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07AD-5035-4D91-8DEB-3CD9F7881C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ctual vs. Simulated Return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6FD8-9B23-4181-9CD8-70A0C47FB3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odel Comparison is Easy!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057400"/>
            <a:ext cx="86104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gt; </a:t>
            </a:r>
            <a:r>
              <a:rPr b="1" lang="en-US" sz="2000" spc="-1" strike="noStrike">
                <a:solidFill>
                  <a:srgbClr val="00cc00"/>
                </a:solidFill>
                <a:latin typeface="Courier New"/>
              </a:rPr>
              <a:t>compare.copulaFit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(cop.normal.fit, cop.gumbel.f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like       AIC       BIC        H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normal.fit 1510.050 -3018.100 -3011.516 -3015.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p.gumbel.fit 1410.845 -2819.689 -2813.104 -2817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E6D0-F0E1-4CAB-82C7-02B146EC1C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4901-AE29-432D-A1E7-0F9AC6A012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eekly Realized Volatility of QQQ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45A2-6F32-4233-8D24-D7F0371ADD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Nonlinear Regime Switching Models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elf-Exciting Threshold Autoregression (SE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mooth Transition Autoregressive (STAR)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me Switching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obse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it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Autoregressiv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arkov Switching State Spac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CFB75-B00E-40EE-9F1B-2FEB0FA617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2209680"/>
          <a:ext cx="67816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67816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06B8-3EE6-427B-A004-817C09F831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752480"/>
          <a:ext cx="647676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476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769608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66F6-5D4B-4E15-975A-2E96840670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Indices from 3-Regime TAR Model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1060-0E29-4373-B1E6-78FE0C3D6E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Typical Applications in Finance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risk and derivative val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program trad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multivariate macro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testing regression and other generic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 daily volatilities and correlations for asset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1181-9AD4-42D8-82F3-5C707E366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Markov Switching AR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3880" y="2314440"/>
          <a:ext cx="609624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314440"/>
                    <a:ext cx="609624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67CD-16AE-4300-80EA-328A833167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Estimated Regime Probabilities from 2-Regime MS-AR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7176-C280-4FCD-B869-1041BC6D8B4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Simulated Predictions of Volatility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29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809880" cy="2476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2480" y="5181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3809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3809880" cy="2514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867280" y="6400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S-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A8B0-819F-4352-8ED4-EC6E67DB8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Applications in Finance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S-PLUS / S+FinMetrics™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New in S+FinMetrics™ 2.0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ications of S+FinMetrics™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ting Bivariate Copulas for Asset Return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Regime Switching Behavior in Return Volatility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ng and Fitting Continuous-Time Model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29040" indent="-3290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/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79E2-9E04-46C8-86DA-4CB18A972D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2044800"/>
          <a:ext cx="5904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044800"/>
                    <a:ext cx="5904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436D-52F5-4E6C-9632-5468C5D2E1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tinuous Time Models in Finance</a:t>
            </a:r>
            <a:endParaRPr b="1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66680" y="2666880"/>
          <a:ext cx="70866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0866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762120" y="1981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te variables are determined by solving the S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411480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re regarded as discretely sampled observations from part of the abov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of the observed process is generally not available in closed form – M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 not fea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1C616-714C-4301-93F4-78E6018A06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3 Month U.S. T-Bill Rat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752480"/>
          <a:ext cx="76201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FE5D-F7FE-4724-B4A1-4ECC10A984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tochastic Volatility Model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52680" y="2508120"/>
          <a:ext cx="626580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2680" y="2508120"/>
                    <a:ext cx="626580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762120" y="1981080"/>
            <a:ext cx="601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zed CIR model for short 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4800600"/>
            <a:ext cx="65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ersen, T. and J. Lund (1997). "Estimating Continuous-Time Stochastic Volatility Models of the Short-term Interest Rate,"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ournal of Econometr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4CE7-87E1-459D-AD51-679709758FF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05120"/>
            <a:ext cx="82296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urier New"/>
              </a:rPr>
              <a:t># calibrate to estimates obtained by Andersen and L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 = c(0.082,6.279,0.670,0.67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rho.gcir.names = c("k","mu","sigma","gamma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ird.gcir.aux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.pcode.au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drift.expr=expression(k*(mu-X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diffuse.expr=expression(sigma*X^gamma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rho.names = rho.gcir.nam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t.per.sim = 1/52, ndt = 2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seed = 123, X0 = 6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    lbound=0,ubound=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 gcir.sim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uler1d.pcode.gensi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ho.gcir,n.sim=2000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           n.var=1,n.burn=1000,aux=gcir.au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76C1-DF59-4047-9A8E-52BFB144A9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imulated GCIR Proces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2120" y="1752480"/>
          <a:ext cx="76197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6197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BC9B-31E5-455D-8245-817EBD5A6E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-PLUS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emier solution for exploratory data analysis and statistic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int-and-click to import various data formats, select statistical functions and displa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 4,200 data analysis functions, including the most comprehensive set of robust and moder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 existing methods or develop new ones with the award-winning S programm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owerful, interactive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3D26-E532-4F61-9871-403D2FABB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 Population Moment Conditions fro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Parameters by Equating Sample Moments to Population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Moments tha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Use weighted average of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Model validity can be tested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Less Efficient than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11D8-A4E6-4464-A842-52F8F44B2A6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Estimation by E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7631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3F27-CEF7-477C-AFFF-BC3E5A26E8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dvantages of EMM over GMM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automatically generates moments from SNP auxilia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requires user-specified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uses moments that mimic infeasible M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uses arbitrary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M provides model diagnostics for each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GMM only provides model diagnostic based on weighted average of all moments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DCA8-3EE4-4E74-B275-1B8B009BB6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EMM Estimation of GCIR Model for T-Bill Rates</a:t>
            </a:r>
            <a:endParaRPr b="1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2038-1E51-4943-A6E1-4D515A49797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tact Information/ References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ic Zivot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faculty.washington.edu/eziv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2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Zivot, E. and J. Wang (2005).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Modeling Financial Time Series with S-PLUS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Univers 57 Condensed"/>
              </a:rPr>
              <a:t>Second Edition</a:t>
            </a: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, Springer-Verlag forthcoming.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ghtful Corporation (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www.insightful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57 Condensed"/>
              </a:rPr>
              <a:t>Sales, Consulting, Training</a:t>
            </a:r>
            <a:endParaRPr b="0" lang="en-US" sz="24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FF24-B66F-4262-B451-81CE43E52EA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BF2A-69A3-401F-82E5-21E9522D18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8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3DFE-BC7A-4EA1-8033-23FDE695C5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What is S+FinMetrics™?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PLUS module with 500+ functions for the econometric modeling and prediction of economic and financial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for researchers and practitioners in the finance industry, academic researchers in economics and finance, and advanced MBA and graduate students in economics and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s the power of S-PLUS for modeling univariate and multivariate 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FD42-AB7B-4A8A-8464-1107EAEDA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-PLUS /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1789200"/>
            <a:ext cx="25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mple Descriptiv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3480" y="49896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anced Modeling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1838160"/>
            <a:ext cx="441972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moothing &amp; Filt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CF &amp; PA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Spectr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ggregation and Seasonal Adju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chnical Analysis &amp;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Fixed Income Analy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ARIMA with Regressors and Long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Dynamic Time Series Regress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Tests for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Unit Root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, Cointegration,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Extreme Value Distributions and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Copu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imulate Solutions to S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Nonlinear regime switching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neural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eneral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Rolling Estimation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eemingly Unrelated Regre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Times New Roman"/>
              </a:rPr>
              <a:t>Vector Autoregression and Co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GARCH – Univariate and Multiva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</a:rPr>
              <a:t>State Space Models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and Kalman Filter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Statistical Factor Models for Large Portfol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Univers 57 Condensed"/>
                <a:ea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Univers 57 Condensed"/>
                <a:ea typeface="Arial"/>
              </a:rPr>
              <a:t>Method of Moments Estimation – GMM &amp; E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19280" y="3178080"/>
            <a:ext cx="685800" cy="1714680"/>
          </a:xfrm>
          <a:prstGeom prst="downArrow">
            <a:avLst>
              <a:gd name="adj1" fmla="val 50000"/>
              <a:gd name="adj2" fmla="val 625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2AFA-2260-491D-92ED-F27BD463D0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ocumentation for S+FinMetrics™</a:t>
            </a:r>
            <a:endParaRPr b="1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06360" y="1981080"/>
            <a:ext cx="2768760" cy="4191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apter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pula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Nonlinear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Continuous-Time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Generalized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Semi-nonparametric Conditional Density Model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7 Condensed"/>
              </a:rPr>
              <a:t>Efficient Method of Moments</a:t>
            </a: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Univers 57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F7D0-C8C5-4BEC-910B-66E5B3C6FE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Kim Kelly</cp:lastModifiedBy>
  <dcterms:modified xsi:type="dcterms:W3CDTF">2005-05-17T14:25:09Z</dcterms:modified>
  <cp:revision>119</cp:revision>
  <dc:subject/>
  <dc:title>PowerPoint Presentation</dc:title>
</cp:coreProperties>
</file>