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3B8-E0C7-4E8F-8A15-087A90E0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693-8DC1-41AA-B3F5-94A84E2B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FE90-7501-45DD-917E-A0F064D8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BD6-9B20-4F32-A578-6ACE4CDA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474A-0031-4EAC-B312-07562954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7062-C262-4073-84AA-A39A30A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6DFC-C958-4DE1-9F2F-4CCC0E7B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86CD-748E-4636-A40E-9AA7B43A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62FF-82BD-4919-A62E-A7F96D99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7D7-F81C-4431-965F-8A354EEF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CBE-DF3F-48AA-827B-A0071B1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312-3958-4DD6-A3E6-47AA6359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D7CF-07E2-4A3B-874D-919CE5F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2AD8-AA24-4D3B-93F9-BD2CD769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C2B-FC5E-45BB-9E6B-756ED508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3E5-9B72-4CBC-A8A0-68161D47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50F-7A46-4D84-859D-1CDD1466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768-2913-46FC-AAA9-29A75969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C33-3415-4956-94B8-EFA25F5F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182-EB56-4010-9661-AC97924B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E2D-FC04-42C8-91C9-D44C80A8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589B-0656-49FF-9C41-2CAEFD73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B6-510A-4083-BFF1-19711EB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076-043C-4B64-882B-A0E72B9D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715-DA70-4DBD-81CF-920F3E00E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037-FD85-4F39-95CF-25C7C3BA5B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Methods for Testing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7315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of a three-parameter logistic item response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three-dimensional model for a smooth log-odds fun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2133720"/>
          <a:ext cx="78487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784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85800" y="350532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3640" y="3765600"/>
            <a:ext cx="79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g(e </a:t>
            </a:r>
            <a:r>
              <a:rPr b="0" i="1" lang="el-GR" sz="2800" spc="-1" strike="noStrike" baseline="30000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1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has the desired behavior at the extre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ther two terms add vertical shift and tilt as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omparing the 3D model and the 3PL log-odd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-spline expansions for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W(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in fact, we will actually estimate our log-odds functions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erms of a set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B-spline basis functions, whi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these expansions towards these simpler three-dimensional mode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maximum marginal likelihood estimation, using the EM algorithm to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743200"/>
          <a:ext cx="777240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743200"/>
                    <a:ext cx="77724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17680" y="396252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g(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prior density on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ften take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the standard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ation is with respect to the nK coeffic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ng the B-spline expansions of the log-od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smoothnes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defined smoothness here in a less orthodox fashion; It isn’t defined only in terms of the second derivativ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ead, we define smooth in terms of the size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4419720"/>
          <a:ext cx="8001000" cy="144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419720"/>
                    <a:ext cx="80010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ome up with thi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conforms exactly to the three-dimensional smooth model, th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ther words, 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05120" y="3581280"/>
            <a:ext cx="5333760" cy="69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4419720"/>
            <a:ext cx="8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057400" y="4800600"/>
          <a:ext cx="41911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4800600"/>
                    <a:ext cx="4191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strategy is to define a low-dimensional family of prototype functions that capture what we mean by “smooth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represent this family by a linear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differential equation defines a measure of “roughness”, which we penali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we penalize this kind of roughness, the more we force the fitted functions to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general, if we begin with a linear model of dimens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can find a linear differential equation of orde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 that all versions of this model will satisf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ome choice of coefficient function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hange the equation to a roughness penalty by converting it to operator 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+…+ b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m-1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-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 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+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oughness-penal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33720" y="2496960"/>
          <a:ext cx="4572000" cy="77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496960"/>
                    <a:ext cx="4572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85800" y="3657600"/>
            <a:ext cx="78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the departure of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this smooth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ds to each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 = 1,…,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kes a binary response =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ere 0 indicates “wrong” and 1 indicates “right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estimat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00ccff"/>
                </a:solidFill>
                <a:latin typeface="Tahoma"/>
              </a:rPr>
              <a:t>a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the probability of pers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etting item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oughness-penalized log marginal likelihoo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we actually maxim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057400" y="3359160"/>
          <a:ext cx="4038480" cy="9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3359160"/>
                    <a:ext cx="40384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94480" y="4400640"/>
            <a:ext cx="807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amount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ness in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;  the larger it is,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ese will look like the three-dimens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ion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examp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three estimates of the item response functions for items 3, 4, 29, and 96 for an introductory psychology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st had 100 items, and was given to 379 studen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defined by an expansion in terms of 13 B-spline basis func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0.0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=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θ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fallen into the habit of call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“latent trait score”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ually, it is the value of a function that is chosen more or less arbitrarily to map position along the response manif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ssumption of a standard normal distribution is pure conven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hoose otherwi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charting functions would be more useful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choices of charting functions are especially interesting, and none are “latent” in any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leads to interesting diagnostic statistics and graph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arc length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 leng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measures the Euclidean distance traveled along the manifold from its origin a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 given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47920" y="3657600"/>
          <a:ext cx="609588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57600"/>
                    <a:ext cx="60958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em discrimination in arc length metric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e useful property of arc length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828800" y="2743200"/>
          <a:ext cx="4038480" cy="146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743200"/>
                    <a:ext cx="4038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8560" y="4095720"/>
            <a:ext cx="840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squared item discrimination is a propor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st discrimination, and therefore h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iar frame of refer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cted scor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uming that expected score is monotonically related to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 (there aren’t too many items like 96), t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666880" y="3276720"/>
          <a:ext cx="3048120" cy="102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3048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3480" y="4248000"/>
            <a:ext cx="91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s a metric that is familiar to users and ea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m to interpr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cted score is already used extensively as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or assessing differential item functioning (DIF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d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spa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n-dimensional unit hypercube. The data vector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 are on the corn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ctors of correct response probabilities {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a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ll along a smooth curve in response space,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response manifo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nifold is, in principle, identifiable from the data, is therefore not a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T Math test for males and fem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 60 item math te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2000 examine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le and female response manifolds diff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item functioning for an ACT Math test it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hange char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ollowing total change in probability of success measure is closely related to arc leng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5120" y="3581280"/>
          <a:ext cx="403848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3581280"/>
                    <a:ext cx="40384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general less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tting functional models to non-functional data is relatively straight-forwar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 do need to transform constrained functions into unconstrained ver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define smoothness or roughness in customized ways that capture the default or baseline behavior of our estimat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nt trait models” aren’t really latent at al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xpress the idea of a one-dimensional subspace for modeling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geometry gives us the appropriate mathematical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room for creativity in choosing chart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ooking a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an intimate connection between designer roughness penalties and the estimation of differential equations from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use discrete data to estimate a differential equation that describes the dat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echnical details on fitting test data with functional models are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ssi, N., Wang, X. and Ramsay, J. O. (2002) Nonparametric item response function estimates with the EM algorithm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ducational and Behavioral Statist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27, 291-3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tem response fun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define a smooth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charting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maps each point on the response manifold to a corresponding real numb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E.g.: arc lengt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is way we establish a metric defining positions on this manifold.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success probability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ll those at positio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This is a smooth function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item response 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item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3200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sponse manifold for 3 test items: 3, 4, and 2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urve indicates the possible values o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a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ircles correspond to 11 fixed values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4953240" cy="3714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334760" y="228600"/>
            <a:ext cx="36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items from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 Psych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es “smooth” mean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a standard normal distribution, then experience indicates that usual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monoton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has slopes nea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er asymptote is positive, and the upper asymptote is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only one inflection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three-parameter logistic item response function is smooth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hallen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item response functions take whatever shapes are support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control their smoothness in this sen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the function values to lie within [0,1]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mooth derivative, too, for the item information fun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log-odds transformation deals with the [0,1] constrai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ctually estim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log [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/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], w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1 –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” in terms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ans linear behavior for extreme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θ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small slope on the left and larger positive slope on the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5:35:29Z</dcterms:created>
  <dc:creator>J. O. Ramsay</dc:creator>
  <dc:description/>
  <dc:language>en-US</dc:language>
  <cp:lastModifiedBy>ramsay</cp:lastModifiedBy>
  <dcterms:modified xsi:type="dcterms:W3CDTF">2004-02-24T17:49:08Z</dcterms:modified>
  <cp:revision>11</cp:revision>
  <dc:subject/>
  <dc:title>Functional Methods for Testing Data</dc:title>
</cp:coreProperties>
</file>