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EF9-7FA3-4D41-914C-CF5BCE0A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3D3-A53D-4A6A-8C6D-49A25CC2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23A-3D97-4A07-A253-C7593663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B28-7DA9-4583-BA81-E939F5E5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C5D3-C995-40DF-A8FA-08CC6D0F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1486-7F64-440F-A470-D7B9EDE1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9FD3-E13E-4DF9-91BB-B3F72AF1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4A8E-F360-4E17-BECA-764909A7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67E-2EEF-45E8-9915-782A9C46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C57B-18EF-4BC4-A5A7-785B6103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44E6-9843-4E77-8173-D6268A1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AC9A-34DC-4CDE-8AFA-904C096C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9B2E-450D-4B99-9D42-6D05985D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4929-5556-4AE1-94B3-85C3EA8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34FA-3445-4373-A1B3-32342C61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E91-54D9-4775-B011-9D8308CE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F5C2-A04F-4F1C-9B04-0D0B1D07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101-1186-452A-BCBE-172898C5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373-E5C1-4A90-9B16-5DF2DCD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C93-4386-4CF5-AB64-C3FEF8AD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58C-030C-4441-AC57-437DE593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F0A-C87A-4B99-8050-BCCBE350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C70-0C0A-4358-BFAB-7158CAA8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B4C-4FA5-4249-99A9-108C67F4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0B31-0FFD-4602-902E-2342142570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CEFD-3455-4B00-9842-7F52929407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DHD Reaction Times: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Densities, Mixed Effects, and P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128680" y="1981080"/>
            <a:ext cx="4884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re there inter-child differen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4560" y="1700280"/>
            <a:ext cx="2449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xamples of four ADHD childr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ashed line is group density for ADH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olid line is individual density for chi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finite child-to-child variability.  Shouldn’t ignore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60498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estimate the densities and account for individual differenc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ccff"/>
                </a:solidFill>
                <a:latin typeface="Tahoma"/>
              </a:rPr>
              <a:t>Transfor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fir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ubtract 120 from each reac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nitial dead period not help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oga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ffects are likely multiplicative, not addi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Z = log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-12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1989000"/>
            <a:ext cx="547200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Mixed Effects Linea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is our functional mixed effects mode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ild mixed effects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hild i; trial j; group 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transformed reaction time density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typical performance of all children in group k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individual performance of child i within group k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leftover variation in density (fun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5843520"/>
            <a:ext cx="3097080" cy="111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μ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U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∑ </a:t>
            </a:r>
            <a:r>
              <a:rPr b="0" lang="el-GR" sz="1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|k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6659640" cy="6118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76720" y="404640"/>
            <a:ext cx="22669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have greater variability in residu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have greater mean residuals (952 vs 645 mse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odality an artifact of instru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explore variability across subjects within a grou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16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o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lore how densities change from child to chil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Principal components (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harmonics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re like empirical basis functions.  Want to expand our densities with these harmon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oblem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ard to ensure that the densities are posi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olution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ccff"/>
                </a:solidFill>
                <a:latin typeface="Tahoma"/>
              </a:rPr>
              <a:t>Transformation! 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lore the derivatives instead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413000"/>
            <a:ext cx="576108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Principal Components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2065320"/>
            <a:ext cx="4038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do the harmonics look lik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343640" cy="1981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1280" y="3573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Used weighted fP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minimizes importance of variation when density is sma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Back-transform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to get harmonics in original density sc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armonic Interpret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More weight on central pea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More weight on early reaction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: Highlights periodic effect from instrumenta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ransfor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he functional object can be indirectly related to the data, such as the probability density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Linear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add random eff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Principal Components Ana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be done on a transformation, such as the log density deriv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ADHD:  Attention Deficit (Hyperactive) Disord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84963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DHD kids have difficulty in focusing on tas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ut true ADHD is rarer than is generally believed, and drug treatments are used much too of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How can we correctly identify ADHD childr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Reaction Time Experi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17 ADHD child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16 age-matched contr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rning of cue” appears on computer scre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elay of about 10 secon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ue actually appea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easure the time it takes to react to the c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peat and get about 70 reaction times for each chil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er reaction times for ADHD than for controls.  But what do they look like?  How to quantif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do reaction times differ between ADHD and control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DHD child has many reaction times beyond 1 sec.  Not so for contr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represent histogram as a smooth dens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hat are differences in shape, mean, mode, etc., between group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account for child-to-child differences when comparing the group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53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represent the histogram as a smooth curv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imple answer:  Find the probability density function using standard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roblem with that:  Standard textbook densities don’t capture characteristics l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Initial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xtreme peak immediately after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ong right tail with many outli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answer:  Use flexible modeling of density functions to create a functional data ob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create a functional density object from a histogra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785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se tools from befor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ccff"/>
                </a:solidFill>
                <a:latin typeface="Tahoma"/>
              </a:rPr>
              <a:t>Basis expansion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:  linear combination of sp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ccff"/>
                </a:solidFill>
                <a:latin typeface="Tahoma"/>
              </a:rPr>
              <a:t>Roughness Penalty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:  making explicit the competing go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asis expansion wi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34 B-splines of order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Equally spaced kn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mpeting goals 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tting density curve exactly to hist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-5281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ing curve to be close to a normal den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about the constraints of a probability density functio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onstrai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(t) &gt; 0 over interval of inter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rea under the curve is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New tool:  </a:t>
            </a:r>
            <a:r>
              <a:rPr b="0" lang="en-CA" sz="2800" spc="-1" strike="noStrike">
                <a:solidFill>
                  <a:srgbClr val="00ccff"/>
                </a:solidFill>
                <a:latin typeface="Tahoma"/>
              </a:rPr>
              <a:t>Transformation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or any function W(t), can build a density func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(t) = C exp{W(t)}, for C = appropriate function of 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ransforms estimation problem from constrained p(t) to unconstrained W(t)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ey, the original data aren’t really functional, are they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dea again:  </a:t>
            </a:r>
            <a:r>
              <a:rPr b="0" lang="en-CA" sz="3200" spc="-1" strike="noStrike">
                <a:solidFill>
                  <a:srgbClr val="00ccff"/>
                </a:solidFill>
                <a:latin typeface="Tahoma"/>
              </a:rPr>
              <a:t>Transformatio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he functional object is really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indirectly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related to the da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ata: reaction times t – non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at we want: reaction time densities p(t) – fun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lated th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2000" y="5445000"/>
          <a:ext cx="5545080" cy="77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5445000"/>
                    <a:ext cx="55450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the group densities look li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08360" y="155700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finite shift in mode between group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imodality, or even trimodalit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DHD has large shoulder and long ta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ut what about individual differences in child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1134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03:31Z</dcterms:created>
  <dc:creator>nuzzo</dc:creator>
  <dc:description/>
  <dc:language>en-US</dc:language>
  <cp:lastModifiedBy>J. O. Ramsay</cp:lastModifiedBy>
  <dcterms:modified xsi:type="dcterms:W3CDTF">2004-02-23T18:27:43Z</dcterms:modified>
  <cp:revision>22</cp:revision>
  <dc:subject/>
  <dc:title>Reaction-Time Distributions</dc:title>
</cp:coreProperties>
</file>