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C590-25D6-49E3-B5B5-87C7AB804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DE4B-4AF2-4218-9874-993EBD98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304A-54B1-4FD8-A09D-FA6472324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26D5-10AA-4285-AF1B-CA198FE20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61CF-21E5-4B22-9031-4AA90329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8527-7BB0-4C0A-9DE1-478C9331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A0E6-D380-4071-9B53-2932D7A5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4ADB-4732-4EBD-AE26-11F1F6B4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1EB4-2F32-4B84-AF84-2D54D328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99F0-9F78-4495-B32B-DB116239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6A0D-6A20-4E43-A599-713945E8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84DD-3646-47B7-AD87-EEB66A19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228B2-E5AE-4C4B-A371-FA7B2721C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site for functional data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9T16:06:19Z</dcterms:created>
  <dc:creator>ramsay</dc:creator>
  <dc:description/>
  <dc:language>en-US</dc:language>
  <cp:lastModifiedBy>ramsay</cp:lastModifiedBy>
  <dcterms:modified xsi:type="dcterms:W3CDTF">2004-12-09T16:08:12Z</dcterms:modified>
  <cp:revision>2</cp:revision>
  <dc:subject/>
  <dc:title>Web site for functional data analysis</dc:title>
</cp:coreProperties>
</file>