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C5DF-181A-45BD-ABAC-6F5D0173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eed picture of mouse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nk about interactive line at minut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dd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ange title in matlab.  Better way to do interactive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D25-48CD-4DED-A3C7-AA4A3AEA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BC2-2853-4B6C-AB0B-65D1AE82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947-5CD1-4489-B439-E319B423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F4-BE51-4101-ADB9-9C1789D0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9B8-10F5-4518-A481-DD5F678A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EEEE-DA2D-43EF-B6FF-6310DB5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4B12-897F-4645-9419-F9576C9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E717-D2ED-4B5B-999A-790818BC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0CF2-D8D4-4314-9181-A89FCFB8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13EB-8F3F-4F54-9E89-F4DDFFD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4232-880E-4102-B898-FC3CCFA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EFB-4ADC-4E02-891E-60F8D2DA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1E10-597A-4713-980B-80D18AE8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9265-2753-475F-A5E4-37A225C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183C-F271-4BD7-AE2E-796F2D3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885B-8627-420C-B69A-E2931856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8CBA-EC53-4BA1-816D-B5E6221B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241-C5D6-40A8-9BEF-D3AB2EDF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F09-CD76-45F2-AF9B-98A14B1E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D4E-7959-4ADC-AC29-CC44A85B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B01-CBF3-4D9C-8686-179FF3F9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344-E106-4ADA-BDA3-3832ACA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9CD-AE05-49A2-886D-17AE64C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27E-662E-46A2-8A0A-6AAF0F8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283D-47B0-4D5C-AA1A-91B238BF9F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E0E9-9457-45F2-8B20-5CFF2DDDE6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Mouse Livers: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Derivatives and Functional Linear Model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8400" y="1981080"/>
            <a:ext cx="48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77708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an also do a functional linear model for derivative (rate of chang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DA allows us to work with derivatives – which are closer to the mechanisms of the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70828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X/dt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12000" y="691920"/>
            <a:ext cx="2674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“kicks in” earlier than does 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kicks in at minute 9, B at minute 1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together, see push only at minute 9 (from A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836640"/>
            <a:ext cx="525636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26920" y="333360"/>
            <a:ext cx="763272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676908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reating a functional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moothing with basis expansions to reduce no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xamining derivatives graph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uilding functional linear mod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unctional regression coeffici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erivatives helpful here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189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es cholesterol get metabolized in the liv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92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questions can we ask of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5400720" cy="4424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24360" y="1457280"/>
            <a:ext cx="331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at does the real, “smooth” process look 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shapes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Do rates of change differ among group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the flow curves look like as functional objec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64000" y="1773000"/>
            <a:ext cx="378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ok the derivative of the smoothed cur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till retain curve-to-curve variability, but now much smo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4969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I graphically explore the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35640" y="1125360"/>
            <a:ext cx="34574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a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flow curves 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ate of change of flow curves Dx(t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lot Dx(t) vs x(t). No longer an explicit function of tim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verlay time points on the curve for interpre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ives information about how function is linked with its derivativ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5076720" cy="489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26920" y="981000"/>
            <a:ext cx="345600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Phase-Plane P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1640" y="115920"/>
            <a:ext cx="7056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 we see in these phase-plane plot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75280" y="1483920"/>
            <a:ext cx="316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Difference in curves between receptors and no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usps or ‘change-points’ when there are recep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Receptor A; Minute 15 for Receptor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inute 9 for Both Receptors: Interactive Effec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5724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is the relationship between the covariates and response curve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response; Scalar predic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Regression coefficient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e basis expansion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1989000"/>
            <a:ext cx="4824720" cy="1068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Linear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3068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213000"/>
            <a:ext cx="87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508640"/>
            <a:ext cx="9144000" cy="64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X(t) =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B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A*B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688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12000" y="476280"/>
            <a:ext cx="3132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ceptors affect steady st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 stronger than 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ffects strongest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 and B have inhibitory relationship after minute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58327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5:02:12Z</dcterms:created>
  <dc:creator>nuzzo</dc:creator>
  <dc:description/>
  <dc:language>en-US</dc:language>
  <cp:lastModifiedBy>J. O. Ramsay</cp:lastModifiedBy>
  <dcterms:modified xsi:type="dcterms:W3CDTF">2004-02-23T18:27:52Z</dcterms:modified>
  <cp:revision>17</cp:revision>
  <dc:subject/>
  <dc:title>Mouse Livers: Derivatives and Functional Linear Models</dc:title>
</cp:coreProperties>
</file>