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F11-BBDC-429A-9D1A-C2F5E15C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298D-11BA-465C-804C-A7876423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6F5-6869-4EEB-A983-CECECD3E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F15-EF8A-46FD-B200-906E18F4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0F4-D4E1-42D7-97A0-8CB9A5D8A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1EFA-74A9-47C5-8B8B-E079351D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4CA3-557C-4446-885F-D85CB812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2BF9-7597-47C7-B058-48EA6D22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CA97-AECB-4582-BDD9-267D4A8D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C743-750A-4059-94C5-EA857577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55AB-0E8C-4DD9-B430-3DCD7661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C2B-593A-4802-8298-58A8A5F6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D07D-4938-48D6-AC00-2333DD3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4636-062D-4C45-8002-9C7BB26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AA1D-9D05-4D87-A259-BE785302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EBE7-4356-4D9A-8590-C24C54F2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C466-1827-4827-B2F6-63C15DA6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06D-9691-4CEA-9B0F-AD253761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3F6-2257-4F5A-87A9-A6BD2E9A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F23-02ED-4407-ACF2-C7856798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3CE-194F-40CA-9E64-BC22419C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5F2-D1C2-4987-8908-841574A8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9FB-6CB0-4214-AC9A-D93899B5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FF3-D7B1-42CC-BAE2-837C53CC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1721-380C-453F-BAB8-E15F67EA20A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E167-A0B7-41BA-92F6-FBA1751AC06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im Rams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cGill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1447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Basis Basics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basis should I use for non-periodic function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Spline bas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ve nearly everything: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finite and independent control over shift, scale, and smooth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tential to model sharp changes i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s well as its smooth vari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fast as polynomials to evalua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nd-structured matrix of valu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do B-splines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t with a discrete mesh of values, called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knots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          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…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L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ace out the knots where you don’t need much resolution, make them dense where you need a lot of resolu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645080" y="2333520"/>
            <a:ext cx="403704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Mother func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s the box function over    [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]: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,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≤ t &lt;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ξ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0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therwi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hif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just shift to another interv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cal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determined by spacing between kno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5080" y="1828800"/>
            <a:ext cx="40370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bout smoothnes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oothness control is the heart of spline technolog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is defined by a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recursion rel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ecursion relation uses spline basis functions at a given smoothness level to make new ones at the next higher smoothness leve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-spline no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The spline basis system we use is the </a:t>
            </a: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B-spline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system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keep notation simple, let the knots be the natural number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j = 0, 1,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need two indices for a B-spline basis func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jm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: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indicate the knot where it starts, and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o indicate its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r degree of smoothnes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our box functions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 = 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4341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-splines of order 2 are </a:t>
            </a: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ten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functions, starting at a knot, rising linearly to 1 at the next knot, and decaying linearly to 0 two knots ov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y are </a:t>
            </a: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 Order 2 implies a continuous derivative of order 0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rder 2 knots are piecewise linea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about order 3 B-spline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40370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recursion for integer kn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098720" y="1392120"/>
          <a:ext cx="717516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1392120"/>
                    <a:ext cx="717516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989280" y="3276720"/>
            <a:ext cx="654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the B-spline function of order 2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ginning at 0, the recursion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309680" y="4495680"/>
          <a:ext cx="6827760" cy="88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9680" y="4495680"/>
                    <a:ext cx="682776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936720" y="609480"/>
          <a:ext cx="69627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609480"/>
                    <a:ext cx="69627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85800" y="1892160"/>
            <a:ext cx="784872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first term, the mother box func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0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multiplied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is therefore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tself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the second, the mother box is shifted to the right and multiplied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2-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second term amounts to a shift and reflection of the first ter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tructing a Tent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02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from Two Boxes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01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11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56996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structing Order 3 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B</a:t>
            </a:r>
            <a:r>
              <a:rPr b="0" i="1" lang="en-US" sz="4000" spc="-1" strike="noStrike" baseline="-25000">
                <a:solidFill>
                  <a:srgbClr val="ccecff"/>
                </a:solidFill>
                <a:latin typeface="Arial"/>
              </a:rPr>
              <a:t>03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(t)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rom Two Tent Func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69960" y="1598760"/>
            <a:ext cx="5996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are basis function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properties should they hav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are they usually constructe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ier ba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-spline bases:  Lots of detail he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velet bas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vice, wrap-up, and beyo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ultiplying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-j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ncreases the polynomial degree of the B-spline in the first term by on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ultiplying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m+j-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does the same thing for the reflected and shifted B-spline in the second ter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esult is a new B-spline of one degree or order higher, spread over an additional interval, and having an one more level of continuous derivativ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der 3 B-splines are piece-wise quadratic, spread over 3 intervals, and have a continuous first derivati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we get the extra smoothnes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0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2-t)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ve the same values at knot 1.  The sum is continuou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02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3-t)B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2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ve the same derivative values at knots 1 and 2.  The sum has a continuous first derivati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ch time we multiply by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nd then shift and reflect the result, we add another order of smooth derivativ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uppose I don’t want so much smoothness at a fixed poin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 can have multiple knots at a poi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each additional knot, the spline function will have one less derivative at that kno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 orde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Bspline with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knots at a point can be discontinuous at that poi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spline software place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knots at each of the boundar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many B-spline basis functions am I using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all interior knots are unique, the total number of B-spline basis functions is equal to the number of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interi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knots plus th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orde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en there are no interior knots, splines become polynomials:  The order equals the number of basis fun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vele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velets take this shift/scale/smooth trio of operations even further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y define basis functions organized into orthogonal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evels of resolu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resulting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multi-resolu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analysis is one of the most exciting developments in mathematics since Fourier’s seri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adv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have periodic data, you’ll probably us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Fourier seri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don’t, you’ll probably us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B-splin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specially if you need to look at or work with derivative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you want a derivative of orde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fit the data with a spline of order at least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m+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although orde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2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has some advantag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have we be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near combinations of basis functions are a convenient way to model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re basis functions we use, the more complex the fitted function can b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basis function systems involve turning three knobs, marked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hift, scal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mooth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modify a mother function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best systems permit independent control of these featu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ke splines and wavele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ere do we go from her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though we can control the resolution of a spline fit by the number of spline basis functions and the spacing of knots, we often need easier more continuous control over smooth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Roughness penalti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an give us the additional control that we ne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are basis functions?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need flexible method for constructing a func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at can track local curva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pick a system of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K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basi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functions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d call this the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cc66"/>
                </a:solidFill>
                <a:latin typeface="Arial"/>
              </a:rPr>
              <a:t>basis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 f(t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expres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 a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weighted sum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of these basis function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f(t) =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 + 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 + … + 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coefficients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, … , a</a:t>
            </a:r>
            <a:r>
              <a:rPr b="0" i="1" lang="en-US" sz="3200" spc="-1" strike="noStrike" baseline="-25000">
                <a:solidFill>
                  <a:srgbClr val="eaeaea"/>
                </a:solidFill>
                <a:latin typeface="Arial"/>
              </a:rPr>
              <a:t>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termine the shape of the fun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do we want from basis function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ast comput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individual basis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lexibl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can exhibit the required curvature where needed, but also be nearly linear when appropriat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ast comput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of coefficient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possible if matrices of values are diagonal, banded or spar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Differentiable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 required:  We make lots of use of derivatives in functional data analy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Constrained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s required, such as periodicity, positivity, monotonicity, asymptotes and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are some commonly used basis function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Powers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1, t, t</a:t>
            </a:r>
            <a:r>
              <a:rPr b="0" i="1" lang="en-US" sz="28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, and so on.  They are the basis functions for polynomials.  These are not very flexible, and are used only for simple problem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Fourier series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 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1, sin(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 cos(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 sin(2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 cos(2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ccecff"/>
                </a:solidFill>
                <a:latin typeface="Arial"/>
              </a:rPr>
              <a:t>t),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and so on for a fixed known frequency </a:t>
            </a:r>
            <a:r>
              <a:rPr b="0" i="1" lang="el-GR" sz="2800" spc="-1" strike="noStrike">
                <a:solidFill>
                  <a:srgbClr val="ccec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.  These are used for periodic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B-spline functions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:  These have now more or less replaced polynomials for non-periodic problems.  More explanation follo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do we construct basis system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start with a prototype basis function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  Let’s call it th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mother func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 apply three operations to i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ateral shi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t+a)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focus fitting power near a position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Scale change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(bt)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increase resolving power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 the capacity for local curvature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Smoothing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to increase differentiability and smoothne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I see an exampl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0024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ider the </a:t>
            </a:r>
            <a:r>
              <a:rPr b="0" lang="en-US" sz="3600" spc="-1" strike="noStrike">
                <a:solidFill>
                  <a:srgbClr val="00cc66"/>
                </a:solidFill>
                <a:latin typeface="Arial"/>
              </a:rPr>
              <a:t>Fourier se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Mother functions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sin(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,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ateral Shift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sin[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+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π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/2)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s(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cale change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sin(k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, cos(k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), k=1,2,…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moot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None; these are already infinitely differentiable func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trength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Orthogonality makes computing coefficients very fa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imit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Fourier series are only natural if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f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s periodic with period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ω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ve Fourier Basis Func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sine/cosine pair with period 1: Captures low frequency var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sine/cosine pair with period ½: Captures higher frequency vari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03704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bout polynomia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mother func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s </a:t>
            </a:r>
            <a:r>
              <a:rPr b="0" i="1" lang="el-GR" sz="2800" spc="-1" strike="noStrike">
                <a:solidFill>
                  <a:srgbClr val="eaeaea"/>
                </a:solidFill>
                <a:latin typeface="Arial"/>
              </a:rPr>
              <a:t>φ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mooth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Multiply by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ncrease both differentiability and curvature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hift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 scal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Polynomials are invariant with respect to shift and scali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Strength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Okay for very simple curves such as linear or slight curvatur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Limitatio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:  Just not flexible enough.  We can’t focus fitting power on a specific locat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18:12:19Z</dcterms:created>
  <dc:creator>ramsay</dc:creator>
  <dc:description/>
  <dc:language>en-US</dc:language>
  <cp:lastModifiedBy>ramsay</cp:lastModifiedBy>
  <dcterms:modified xsi:type="dcterms:W3CDTF">2004-06-07T13:47:20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