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0FD-586A-4C27-8E32-4B97EC52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8858-88E9-4E2C-A556-D81CDB79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13D-8BD0-45BE-AB95-72A011ED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D428-4C93-4480-B98F-7D8C23F0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071-453F-4D4C-B597-EAD4903C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F9E-87C3-4EC1-BA22-A011DA13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BBA-B3CA-4A44-8114-5877B019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FADD-AC31-41C6-83C4-4C7E72B9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6A3-4463-416F-A348-CF8D3A21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74A-9DB5-4CEB-A71F-A1CD7C1C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92B0-5EF3-42E6-9034-CC3E328C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33C-8457-4C27-AA30-C7E3A71F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E33A-4E51-4531-A52A-6A82A7AC3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13:58:35Z</dcterms:created>
  <dc:creator>Jim Ramsay</dc:creator>
  <dc:description/>
  <dc:language>en-US</dc:language>
  <cp:lastModifiedBy>Jim Ramsay</cp:lastModifiedBy>
  <dcterms:modified xsi:type="dcterms:W3CDTF">2005-07-21T19:13:10Z</dcterms:modified>
  <cp:revision>2</cp:revision>
  <dc:subject/>
  <dc:title>Slide 1</dc:title>
</cp:coreProperties>
</file>